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226-A870-4394-AF9B-E69C28AD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FED-2596-45A4-95D6-F3C35058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517-1474-4D31-8F26-3CDBD224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7CA-9A72-4A5F-97CA-DDFEB223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934-CA5D-4FE4-BD8C-EC0182D1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EA4-9C9A-4F23-A0E2-417D210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BBF-3B91-4821-A5D5-17D37AA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8A3-AD52-4BDF-8BF7-C45881D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DEC-4310-43D5-967D-A373A7D2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416-A415-4478-92AA-D613F6F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FC3-9552-43E2-BA81-D2F5C50E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747-688E-4131-B9D1-DBE69D51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9E6-86D2-4A81-A353-31857DA5F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ob.cowles@slac.stanford.edu" TargetMode="External"/><Relationship Id="rId2" Type="http://schemas.openxmlformats.org/officeDocument/2006/relationships/hyperlink" Target="mailto:bob.cowles@slac.stanford.edu" TargetMode="External"/><Relationship Id="rId3" Type="http://schemas.openxmlformats.org/officeDocument/2006/relationships/hyperlink" Target="mailto:bob.cowles@slac.stanford.edu" TargetMode="External"/><Relationship Id="rId4" Type="http://schemas.openxmlformats.org/officeDocument/2006/relationships/hyperlink" Target="mailto:bob.cowles@slac.stanford.edu" TargetMode="External"/><Relationship Id="rId5" Type="http://schemas.openxmlformats.org/officeDocument/2006/relationships/hyperlink" Target="mailto:bob.cowles@slac.stanford.edu" TargetMode="External"/><Relationship Id="rId6" Type="http://schemas.openxmlformats.org/officeDocument/2006/relationships/hyperlink" Target="mailto:bob.cowles@slac.stanford.edu" TargetMode="Externa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r.sans.org/policy/standardization.php" TargetMode="External"/><Relationship Id="rId2" Type="http://schemas.openxmlformats.org/officeDocument/2006/relationships/hyperlink" Target="http://rr.sans.org/policy/standardization.php" TargetMode="External"/><Relationship Id="rId3" Type="http://schemas.openxmlformats.org/officeDocument/2006/relationships/hyperlink" Target="http://rr.sans.org/policy/standardization.php" TargetMode="External"/><Relationship Id="rId4" Type="http://schemas.openxmlformats.org/officeDocument/2006/relationships/hyperlink" Target="http://rr.sans.org/policy/standardization.php" TargetMode="External"/><Relationship Id="rId5" Type="http://schemas.openxmlformats.org/officeDocument/2006/relationships/hyperlink" Target="http://www.standardsdirect.org/iso17799.htm" TargetMode="External"/><Relationship Id="rId6" Type="http://schemas.openxmlformats.org/officeDocument/2006/relationships/hyperlink" Target="http://www.standardsdirect.org/iso17799.htm" TargetMode="External"/><Relationship Id="rId7" Type="http://schemas.openxmlformats.org/officeDocument/2006/relationships/hyperlink" Target="http://www.standardsdirect.org/iso17799.htm" TargetMode="External"/><Relationship Id="rId8" Type="http://schemas.openxmlformats.org/officeDocument/2006/relationships/hyperlink" Target="http://www.standardsdirect.org/iso17799.htm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Security Management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Silk Highwa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ecurity Workshop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-24 Jun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re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Robert Cow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dc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Bookman Old Style"/>
                <a:hlinkClick r:id="rId1"/>
              </a:rPr>
              <a:t>@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Bookman Old Style"/>
                <a:hlinkClick r:id="rId2"/>
              </a:rPr>
              <a:t>slac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Bookman Old Style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Bookman Old Style"/>
                <a:hlinkClick r:id="rId4"/>
              </a:rPr>
              <a:t>stanford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Bookman Old Style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292929"/>
                </a:solidFill>
                <a:uFillTx/>
                <a:latin typeface="Bookman Old Style"/>
                <a:hlinkClick r:id="rId6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E3C-3074-4DA8-B4A4-006B6E60CDB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71800" y="560376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4D9-4FD7-4624-B79C-0246114C1B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46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4FF-05AF-4FE5-85D4-63843EEE785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90000" y="56037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10D-D8C2-4060-93B4-EC11321E638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Heri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secure.”  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(black/white)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system “sec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are very cre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creative people annoying rules to follow and you ge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ntended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216-1FB8-45A4-B126-1830555C5D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 starts with the C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eeds prot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security is not abso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osses are accep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sts are accep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must be in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F2F-6B8C-4AEA-B48F-9EE10D842F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-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t to protect a resource from unauthorized use; identifying uses regu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focus for resourc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s for all that fo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42A-EF1E-41C9-A0BD-3ED4B617975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- Risk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value assets to prot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threat and vuln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alternative counter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cost/benef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CC4-A215-4185-99B3-82F7D95D53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- Risk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to many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, hardware,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- admins, users,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for maintenance and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ness of existing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1A9-5C4E-4233-9F66-529C2D16FB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Accoun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Accountability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wnership of informatio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users are allow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ies (select good passwords, report suspicious activity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pectation of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ors will be 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CCD-E2C8-4E47-848A-8D7E844CC7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wor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8C9-3DAE-4660-8C1D-934BB42132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with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rules for behavior and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responsibility and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rvices and corresponding contr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3B9-613A-41F6-AA91-D692B96774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lv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the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s of in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 (and delegation of autho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BC0-9AB7-4F2C-9E26-7F8A901DFF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 Handling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minimization of legal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inventory with 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itization of activities for asset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critical decisions/actions are docu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4F0-0751-4490-9C13-C703F806408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ing on enforcement of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ing for hardware, software, and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dministration is full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protection vs.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education (as with health and safety iss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4F5-8ECA-4D93-91E0-55411E59AF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oli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hange in respons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olicies and standards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F6F-6578-4E4A-B49E-4D7268E10E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 177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"/>
                <a:hlinkClick r:id="rId2"/>
              </a:rPr>
              <a:t>rr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"/>
                <a:hlinkClick r:id="rId3"/>
              </a:rPr>
              <a:t>.sans.org/policy/standardization.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"/>
                <a:hlinkClick r:id="rId4"/>
              </a:rPr>
              <a:t>ph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s confidentiality, integrity and availability of information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from BS 7799 and accepted as a standard in Decemb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purchased: </a:t>
            </a:r>
            <a:r>
              <a:rPr b="0" lang="en-GB" sz="2800" spc="-1" strike="noStrike" u="sng">
                <a:solidFill>
                  <a:srgbClr val="292929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292929"/>
                </a:solidFill>
                <a:uFillTx/>
                <a:latin typeface="Times New Roman"/>
                <a:hlinkClick r:id="rId6"/>
              </a:rPr>
              <a:t>standardsdirect</a:t>
            </a:r>
            <a:r>
              <a:rPr b="0" lang="en-GB" sz="2800" spc="-1" strike="noStrike" u="sng">
                <a:solidFill>
                  <a:srgbClr val="292929"/>
                </a:solidFill>
                <a:uFillTx/>
                <a:latin typeface="Times New Roman"/>
                <a:hlinkClick r:id="rId7"/>
              </a:rPr>
              <a:t>.org/iso17799.</a:t>
            </a:r>
            <a:r>
              <a:rPr b="0" lang="en-GB" sz="2800" spc="-1" strike="noStrike" u="sng">
                <a:solidFill>
                  <a:srgbClr val="292929"/>
                </a:solidFill>
                <a:uFillTx/>
                <a:latin typeface="Times New Roman"/>
                <a:hlinkClick r:id="rId8"/>
              </a:rPr>
              <a:t>ht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s 10 coverage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0F6-09B7-41A1-AFB9-C2FA7CCF5F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 17799 Coverage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ed information securit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cation of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and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 reporting and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 detection and pre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862-D145-4B15-9AAA-6B56E5CC56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 17799 Coverage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continuity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of software cop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of critica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of person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c compliance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32B-2E1F-4B1A-88F6-4D4426D162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077320" y="5791320"/>
            <a:ext cx="15228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1295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733920"/>
            <a:ext cx="6400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038480"/>
            <a:ext cx="6400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191120"/>
            <a:ext cx="6400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495680"/>
            <a:ext cx="6400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648320"/>
            <a:ext cx="6400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295280"/>
            <a:ext cx="6400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124080"/>
            <a:ext cx="640080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1981080"/>
            <a:ext cx="609480" cy="5335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952880"/>
            <a:ext cx="609480" cy="5335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480" y="4266720"/>
            <a:ext cx="4564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753200" y="3961440"/>
            <a:ext cx="7610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600920" y="3656880"/>
            <a:ext cx="10656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2320" y="3352320"/>
            <a:ext cx="15228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43720" y="3047040"/>
            <a:ext cx="198000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800" y="274356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10200" y="2437560"/>
            <a:ext cx="3047040" cy="25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4952880"/>
            <a:ext cx="609840" cy="53352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58160" y="4266720"/>
            <a:ext cx="4564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105880" y="3961440"/>
            <a:ext cx="7610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953240" y="3656880"/>
            <a:ext cx="10663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24640" y="335232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96040" y="3047040"/>
            <a:ext cx="19807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480" y="274356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962880" y="2437560"/>
            <a:ext cx="3047040" cy="25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81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0560" y="2716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S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120" y="887400"/>
            <a:ext cx="17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S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3256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 of SL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533520"/>
            <a:ext cx="1066680" cy="6094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Citrix F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533520"/>
            <a:ext cx="1066680" cy="6094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33520"/>
            <a:ext cx="1066680" cy="6094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5791320"/>
            <a:ext cx="6933960" cy="304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5791320"/>
            <a:ext cx="15228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514600"/>
            <a:ext cx="76212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762120"/>
            <a:ext cx="7621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14600"/>
            <a:ext cx="76212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514600"/>
            <a:ext cx="76212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666880" y="1523880"/>
            <a:ext cx="1066680" cy="762120"/>
            <a:chOff x="2666880" y="1523880"/>
            <a:chExt cx="1066680" cy="762120"/>
          </a:xfrm>
        </p:grpSpPr>
        <p:sp>
          <p:nvSpPr>
            <p:cNvPr id="144" name=""/>
            <p:cNvSpPr/>
            <p:nvPr/>
          </p:nvSpPr>
          <p:spPr>
            <a:xfrm>
              <a:off x="2666880" y="1523880"/>
              <a:ext cx="106668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47920" y="1523880"/>
            <a:ext cx="106668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362320"/>
            <a:ext cx="60958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324480" y="1523880"/>
            <a:ext cx="1066680" cy="762120"/>
            <a:chOff x="6324480" y="1523880"/>
            <a:chExt cx="1066680" cy="762120"/>
          </a:xfrm>
        </p:grpSpPr>
        <p:sp>
          <p:nvSpPr>
            <p:cNvPr id="151" name=""/>
            <p:cNvSpPr/>
            <p:nvPr/>
          </p:nvSpPr>
          <p:spPr>
            <a:xfrm>
              <a:off x="6324480" y="1523880"/>
              <a:ext cx="106668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S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764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8580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105520" y="1523880"/>
            <a:ext cx="1066680" cy="762120"/>
            <a:chOff x="5105520" y="1523880"/>
            <a:chExt cx="1066680" cy="762120"/>
          </a:xfrm>
        </p:grpSpPr>
        <p:sp>
          <p:nvSpPr>
            <p:cNvPr id="155" name=""/>
            <p:cNvSpPr/>
            <p:nvPr/>
          </p:nvSpPr>
          <p:spPr>
            <a:xfrm>
              <a:off x="5105520" y="1523880"/>
              <a:ext cx="106668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M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D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886200" y="1523880"/>
            <a:ext cx="106668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3800" y="54864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gabit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354-CA42-43BE-9111-0170BF1748C5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is not absolute - involves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tradeoffs are not techn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must decide in ad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must be informed in ad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considerations drive many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priority- restore normal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013-4A95-40B7-864D-6009B66103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what it is supposed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do anything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ust in Cyber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red B. Schneider,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F45-337C-4614-B7C5-2E0B5A52A2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ystems have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ly understood emergent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mbly of untrustworthy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part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010-FF8B-48B2-8606-C89BC7E238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over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hecked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d environment (assumptio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E62-8023-475E-BF16-8A3009563D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t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+ HTTP = The Web  (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content (Java, JavaScript, Activ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ing content (RealPlayer, Media Pla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E1A-EE48-42B8-AF10-30501FBDBD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rustworthy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Off The Shelf (CO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n by Euro and Y2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chwork of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states of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sible to achieve consistency (HW &amp;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smaller pieces are poorly underst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, Windows, Mozilla,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7BA-DDD4-4A56-B3A3-5C2ECBCF63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s in th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 procedures (back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ecurity pract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ssumed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60A-6D1E-4574-A7A6-6605985F50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0005" t="0" r="0" b="0"/>
          <a:stretch/>
        </p:blipFill>
        <p:spPr>
          <a:xfrm>
            <a:off x="2666880" y="11430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Bob Cowles,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9B5-D42D-440E-BC64-E3D04A3E467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Jun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3T07:43:06Z</dcterms:created>
  <dc:creator>Bob Cowles</dc:creator>
  <dc:description/>
  <dc:language>en-US</dc:language>
  <cp:lastModifiedBy>Yuri Demchenko</cp:lastModifiedBy>
  <cp:lastPrinted>1998-07-20T10:38:25Z</cp:lastPrinted>
  <dcterms:modified xsi:type="dcterms:W3CDTF">2005-09-20T20:08:32Z</dcterms:modified>
  <cp:revision>165</cp:revision>
  <dc:subject/>
  <dc:title>Web Security</dc:title>
</cp:coreProperties>
</file>