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907588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28DC-3BAC-4E70-B759-A00B8863A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01800" y="190440"/>
            <a:ext cx="88200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3100" spc="-1" strike="noStrike">
              <a:solidFill>
                <a:srgbClr val="0000f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3080" y="1351080"/>
            <a:ext cx="9558360" cy="245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4800" indent="0">
              <a:spcBef>
                <a:spcPts val="524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63080" y="4044240"/>
            <a:ext cx="9558360" cy="245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4800" indent="0">
              <a:spcBef>
                <a:spcPts val="524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E111-55EA-446D-8E2C-2C30A7186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01800" y="190440"/>
            <a:ext cx="88200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3100" spc="-1" strike="noStrike">
              <a:solidFill>
                <a:srgbClr val="0000f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3080" y="1351080"/>
            <a:ext cx="4664160" cy="245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4800" indent="0">
              <a:spcBef>
                <a:spcPts val="524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60880" y="1351080"/>
            <a:ext cx="4664160" cy="245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4800" indent="0">
              <a:spcBef>
                <a:spcPts val="524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3080" y="4044240"/>
            <a:ext cx="4664160" cy="245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4800" indent="0">
              <a:spcBef>
                <a:spcPts val="524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60880" y="4044240"/>
            <a:ext cx="4664160" cy="245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4800" indent="0">
              <a:spcBef>
                <a:spcPts val="524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A544-5EE5-4EBC-80C7-9023294B3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01800" y="190440"/>
            <a:ext cx="88200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3100" spc="-1" strike="noStrike">
              <a:solidFill>
                <a:srgbClr val="0000f8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63080" y="1351080"/>
            <a:ext cx="3077640" cy="245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4800" indent="0">
              <a:spcBef>
                <a:spcPts val="524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95160" y="1351080"/>
            <a:ext cx="3077640" cy="245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4800" indent="0">
              <a:spcBef>
                <a:spcPts val="524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26880" y="1351080"/>
            <a:ext cx="3077640" cy="245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4800" indent="0">
              <a:spcBef>
                <a:spcPts val="524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63080" y="4044240"/>
            <a:ext cx="3077640" cy="245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4800" indent="0">
              <a:spcBef>
                <a:spcPts val="524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95160" y="4044240"/>
            <a:ext cx="3077640" cy="245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4800" indent="0">
              <a:spcBef>
                <a:spcPts val="524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26880" y="4044240"/>
            <a:ext cx="3077640" cy="245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4800" indent="0">
              <a:spcBef>
                <a:spcPts val="524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AEC7-97E7-4639-9919-EDE0E9F9A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B08FA-9E6D-4FD1-8843-0F11FAEF1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1800" y="190440"/>
            <a:ext cx="88200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3100" spc="-1" strike="noStrike">
              <a:solidFill>
                <a:srgbClr val="0000f8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63080" y="1351080"/>
            <a:ext cx="9558360" cy="51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3D30B-40BE-462C-B6D5-B6D3CFB2E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01800" y="190440"/>
            <a:ext cx="88200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3100" spc="-1" strike="noStrike">
              <a:solidFill>
                <a:srgbClr val="0000f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3080" y="1351080"/>
            <a:ext cx="9558360" cy="515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4800" indent="0">
              <a:spcBef>
                <a:spcPts val="524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8F0EA-222A-4659-91C9-B431B16D5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01800" y="190440"/>
            <a:ext cx="88200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3100" spc="-1" strike="noStrike">
              <a:solidFill>
                <a:srgbClr val="0000f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63080" y="1351080"/>
            <a:ext cx="4664160" cy="515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4800" indent="0">
              <a:spcBef>
                <a:spcPts val="524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60880" y="1351080"/>
            <a:ext cx="4664160" cy="515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4800" indent="0">
              <a:spcBef>
                <a:spcPts val="524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74CC2-25DC-4736-9313-AB4F8883B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01800" y="190440"/>
            <a:ext cx="88200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3100" spc="-1" strike="noStrike">
              <a:solidFill>
                <a:srgbClr val="0000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ED6C5-280D-4CBE-A149-BCF49E7E7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01800" y="190440"/>
            <a:ext cx="88200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25974-C6B4-4F4E-801F-F2907625A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01800" y="190440"/>
            <a:ext cx="88200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3100" spc="-1" strike="noStrike">
              <a:solidFill>
                <a:srgbClr val="0000f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3080" y="1351080"/>
            <a:ext cx="4664160" cy="245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4800" indent="0">
              <a:spcBef>
                <a:spcPts val="524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60880" y="1351080"/>
            <a:ext cx="4664160" cy="515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4800" indent="0">
              <a:spcBef>
                <a:spcPts val="524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63080" y="4044240"/>
            <a:ext cx="4664160" cy="245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4800" indent="0">
              <a:spcBef>
                <a:spcPts val="524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68C39-A47C-4806-BC63-617038FD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1800" y="190440"/>
            <a:ext cx="88200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3100" spc="-1" strike="noStrike">
              <a:solidFill>
                <a:srgbClr val="0000f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63080" y="1351080"/>
            <a:ext cx="9558360" cy="51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B11D-FC1D-471F-A667-9FD64BE35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01800" y="190440"/>
            <a:ext cx="88200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3100" spc="-1" strike="noStrike">
              <a:solidFill>
                <a:srgbClr val="0000f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3080" y="1351080"/>
            <a:ext cx="4664160" cy="515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4800" indent="0">
              <a:spcBef>
                <a:spcPts val="524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60880" y="1351080"/>
            <a:ext cx="4664160" cy="245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4800" indent="0">
              <a:spcBef>
                <a:spcPts val="524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60880" y="4044240"/>
            <a:ext cx="4664160" cy="245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4800" indent="0">
              <a:spcBef>
                <a:spcPts val="524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39ED1-A42A-4DE4-AD12-D85853EF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1800" y="190440"/>
            <a:ext cx="88200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3100" spc="-1" strike="noStrike">
              <a:solidFill>
                <a:srgbClr val="0000f8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3080" y="1351080"/>
            <a:ext cx="4664160" cy="245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4800" indent="0">
              <a:spcBef>
                <a:spcPts val="524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60880" y="1351080"/>
            <a:ext cx="4664160" cy="245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4800" indent="0">
              <a:spcBef>
                <a:spcPts val="524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63080" y="4044240"/>
            <a:ext cx="9558360" cy="245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4800" indent="0">
              <a:spcBef>
                <a:spcPts val="524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05B1A-89BA-4C4F-BF68-47706B91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01800" y="190440"/>
            <a:ext cx="88200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3100" spc="-1" strike="noStrike">
              <a:solidFill>
                <a:srgbClr val="0000f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63080" y="1351080"/>
            <a:ext cx="9558360" cy="245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4800" indent="0">
              <a:spcBef>
                <a:spcPts val="524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63080" y="4044240"/>
            <a:ext cx="9558360" cy="245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4800" indent="0">
              <a:spcBef>
                <a:spcPts val="524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9F72A-6E0B-4700-8993-84AC2818D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01800" y="190440"/>
            <a:ext cx="88200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3100" spc="-1" strike="noStrike">
              <a:solidFill>
                <a:srgbClr val="0000f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3080" y="1351080"/>
            <a:ext cx="4664160" cy="245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4800" indent="0">
              <a:spcBef>
                <a:spcPts val="524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0880" y="1351080"/>
            <a:ext cx="4664160" cy="245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4800" indent="0">
              <a:spcBef>
                <a:spcPts val="524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63080" y="4044240"/>
            <a:ext cx="4664160" cy="245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4800" indent="0">
              <a:spcBef>
                <a:spcPts val="524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60880" y="4044240"/>
            <a:ext cx="4664160" cy="245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4800" indent="0">
              <a:spcBef>
                <a:spcPts val="524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01557-E202-4F9F-BDD0-ADCB35E0E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1800" y="190440"/>
            <a:ext cx="88200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3100" spc="-1" strike="noStrike">
              <a:solidFill>
                <a:srgbClr val="0000f8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63080" y="1351080"/>
            <a:ext cx="3077640" cy="245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4800" indent="0">
              <a:spcBef>
                <a:spcPts val="524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395160" y="1351080"/>
            <a:ext cx="3077640" cy="245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4800" indent="0">
              <a:spcBef>
                <a:spcPts val="524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626880" y="1351080"/>
            <a:ext cx="3077640" cy="245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4800" indent="0">
              <a:spcBef>
                <a:spcPts val="524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63080" y="4044240"/>
            <a:ext cx="3077640" cy="245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4800" indent="0">
              <a:spcBef>
                <a:spcPts val="524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395160" y="4044240"/>
            <a:ext cx="3077640" cy="245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4800" indent="0">
              <a:spcBef>
                <a:spcPts val="524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626880" y="4044240"/>
            <a:ext cx="3077640" cy="245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4800" indent="0">
              <a:spcBef>
                <a:spcPts val="524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F7553-0A43-4EAC-87CA-A988D149B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01800" y="190440"/>
            <a:ext cx="88200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3100" spc="-1" strike="noStrike">
              <a:solidFill>
                <a:srgbClr val="0000f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63080" y="1351080"/>
            <a:ext cx="9558360" cy="515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4800" indent="0">
              <a:spcBef>
                <a:spcPts val="524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1AEF-4AED-4774-8524-FDEB972A0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01800" y="190440"/>
            <a:ext cx="88200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3100" spc="-1" strike="noStrike">
              <a:solidFill>
                <a:srgbClr val="0000f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3080" y="1351080"/>
            <a:ext cx="4664160" cy="515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4800" indent="0">
              <a:spcBef>
                <a:spcPts val="524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0880" y="1351080"/>
            <a:ext cx="4664160" cy="515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4800" indent="0">
              <a:spcBef>
                <a:spcPts val="524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095D-07B6-4DB3-B54F-41AE7FDFF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01800" y="190440"/>
            <a:ext cx="88200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3100" spc="-1" strike="noStrike">
              <a:solidFill>
                <a:srgbClr val="0000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7367-370D-48F7-981E-DAA62D67C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01800" y="190440"/>
            <a:ext cx="88200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8BE3-3F46-44D0-B727-0A425204E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01800" y="190440"/>
            <a:ext cx="88200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3100" spc="-1" strike="noStrike">
              <a:solidFill>
                <a:srgbClr val="0000f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3080" y="1351080"/>
            <a:ext cx="4664160" cy="245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4800" indent="0">
              <a:spcBef>
                <a:spcPts val="524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0880" y="1351080"/>
            <a:ext cx="4664160" cy="515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4800" indent="0">
              <a:spcBef>
                <a:spcPts val="524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63080" y="4044240"/>
            <a:ext cx="4664160" cy="245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4800" indent="0">
              <a:spcBef>
                <a:spcPts val="524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A367-A7D0-4F51-8254-09EED7D3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01800" y="190440"/>
            <a:ext cx="88200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3100" spc="-1" strike="noStrike">
              <a:solidFill>
                <a:srgbClr val="0000f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63080" y="1351080"/>
            <a:ext cx="4664160" cy="515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4800" indent="0">
              <a:spcBef>
                <a:spcPts val="524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0880" y="1351080"/>
            <a:ext cx="4664160" cy="245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4800" indent="0">
              <a:spcBef>
                <a:spcPts val="524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60880" y="4044240"/>
            <a:ext cx="4664160" cy="245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4800" indent="0">
              <a:spcBef>
                <a:spcPts val="524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09AE-E488-44E5-A422-2B941AB14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01800" y="190440"/>
            <a:ext cx="88200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3100" spc="-1" strike="noStrike">
              <a:solidFill>
                <a:srgbClr val="0000f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63080" y="1351080"/>
            <a:ext cx="4664160" cy="245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4800" indent="0">
              <a:spcBef>
                <a:spcPts val="524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0880" y="1351080"/>
            <a:ext cx="4664160" cy="245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4800" indent="0">
              <a:spcBef>
                <a:spcPts val="524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63080" y="4044240"/>
            <a:ext cx="9558360" cy="245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4800" indent="0">
              <a:spcBef>
                <a:spcPts val="524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367E-4EEF-43F0-8C48-5CDF175F7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64240"/>
            <a:ext cx="9891720" cy="292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01800" y="190440"/>
            <a:ext cx="88200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100" spc="-1" strike="noStrike">
                <a:solidFill>
                  <a:srgbClr val="0000f8"/>
                </a:solidFill>
                <a:latin typeface="Arial"/>
              </a:rPr>
              <a:t>Click to edit the title text format</a:t>
            </a:r>
            <a:endParaRPr b="0" lang="en-US" sz="3100" spc="-1" strike="noStrike">
              <a:solidFill>
                <a:srgbClr val="0000f8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3080" y="1351080"/>
            <a:ext cx="9558360" cy="515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4800" indent="0">
              <a:spcBef>
                <a:spcPts val="524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34800" indent="-334800">
              <a:spcBef>
                <a:spcPts val="524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334800" indent="-334800">
              <a:spcBef>
                <a:spcPts val="524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334800" indent="-3348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334800" indent="-3348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334800" indent="-33480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334800" indent="-33480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46240" y="6539040"/>
            <a:ext cx="2334960" cy="3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403440" y="6552720"/>
            <a:ext cx="3138480" cy="30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603920" y="6554880"/>
            <a:ext cx="2060280" cy="30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_</a:t>
            </a:r>
            <a:fld id="{547B440B-D2FD-4291-8B7B-83330CFBAD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1012680"/>
            <a:ext cx="9698040" cy="144360"/>
            <a:chOff x="0" y="1012680"/>
            <a:chExt cx="9698040" cy="144360"/>
          </a:xfrm>
        </p:grpSpPr>
        <p:sp>
          <p:nvSpPr>
            <p:cNvPr id="7" name=""/>
            <p:cNvSpPr/>
            <p:nvPr/>
          </p:nvSpPr>
          <p:spPr>
            <a:xfrm>
              <a:off x="0" y="1012680"/>
              <a:ext cx="9698040" cy="65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99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133640"/>
              <a:ext cx="9698040" cy="234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9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0" y="25560"/>
            <a:ext cx="793800" cy="944280"/>
            <a:chOff x="0" y="25560"/>
            <a:chExt cx="793800" cy="944280"/>
          </a:xfrm>
        </p:grpSpPr>
        <p:sp>
          <p:nvSpPr>
            <p:cNvPr id="10" name=""/>
            <p:cNvSpPr/>
            <p:nvPr/>
          </p:nvSpPr>
          <p:spPr>
            <a:xfrm>
              <a:off x="0" y="25560"/>
              <a:ext cx="793800" cy="944280"/>
            </a:xfrm>
            <a:custGeom>
              <a:avLst/>
              <a:gdLst/>
              <a:ahLst/>
              <a:rect l="l" t="t" r="r" b="b"/>
              <a:pathLst>
                <a:path w="508" h="635">
                  <a:moveTo>
                    <a:pt x="173" y="287"/>
                  </a:moveTo>
                  <a:lnTo>
                    <a:pt x="70" y="0"/>
                  </a:lnTo>
                  <a:lnTo>
                    <a:pt x="215" y="255"/>
                  </a:lnTo>
                  <a:lnTo>
                    <a:pt x="360" y="0"/>
                  </a:lnTo>
                  <a:lnTo>
                    <a:pt x="255" y="287"/>
                  </a:lnTo>
                  <a:lnTo>
                    <a:pt x="507" y="317"/>
                  </a:lnTo>
                  <a:lnTo>
                    <a:pt x="254" y="346"/>
                  </a:lnTo>
                  <a:lnTo>
                    <a:pt x="360" y="634"/>
                  </a:lnTo>
                  <a:lnTo>
                    <a:pt x="215" y="378"/>
                  </a:lnTo>
                  <a:lnTo>
                    <a:pt x="70" y="634"/>
                  </a:lnTo>
                  <a:lnTo>
                    <a:pt x="171" y="348"/>
                  </a:lnTo>
                  <a:lnTo>
                    <a:pt x="0" y="326"/>
                  </a:lnTo>
                  <a:lnTo>
                    <a:pt x="0" y="307"/>
                  </a:lnTo>
                  <a:lnTo>
                    <a:pt x="173" y="287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99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320" y="153360"/>
              <a:ext cx="665640" cy="686880"/>
            </a:xfrm>
            <a:custGeom>
              <a:avLst/>
              <a:gdLst/>
              <a:ahLst/>
              <a:rect l="l" t="t" r="r" b="b"/>
              <a:pathLst>
                <a:path w="426" h="462">
                  <a:moveTo>
                    <a:pt x="170" y="202"/>
                  </a:moveTo>
                  <a:lnTo>
                    <a:pt x="105" y="0"/>
                  </a:lnTo>
                  <a:lnTo>
                    <a:pt x="213" y="169"/>
                  </a:lnTo>
                  <a:lnTo>
                    <a:pt x="316" y="0"/>
                  </a:lnTo>
                  <a:lnTo>
                    <a:pt x="253" y="202"/>
                  </a:lnTo>
                  <a:lnTo>
                    <a:pt x="425" y="231"/>
                  </a:lnTo>
                  <a:lnTo>
                    <a:pt x="252" y="258"/>
                  </a:lnTo>
                  <a:lnTo>
                    <a:pt x="316" y="461"/>
                  </a:lnTo>
                  <a:lnTo>
                    <a:pt x="213" y="291"/>
                  </a:lnTo>
                  <a:lnTo>
                    <a:pt x="105" y="461"/>
                  </a:lnTo>
                  <a:lnTo>
                    <a:pt x="169" y="261"/>
                  </a:lnTo>
                  <a:lnTo>
                    <a:pt x="0" y="231"/>
                  </a:lnTo>
                  <a:lnTo>
                    <a:pt x="170" y="202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99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01520" y="169560"/>
              <a:ext cx="470160" cy="654120"/>
            </a:xfrm>
            <a:custGeom>
              <a:avLst/>
              <a:gdLst/>
              <a:ahLst/>
              <a:rect l="l" t="t" r="r" b="b"/>
              <a:pathLst>
                <a:path w="301" h="440">
                  <a:moveTo>
                    <a:pt x="0" y="111"/>
                  </a:moveTo>
                  <a:lnTo>
                    <a:pt x="136" y="189"/>
                  </a:lnTo>
                  <a:lnTo>
                    <a:pt x="150" y="0"/>
                  </a:lnTo>
                  <a:lnTo>
                    <a:pt x="163" y="189"/>
                  </a:lnTo>
                  <a:lnTo>
                    <a:pt x="298" y="108"/>
                  </a:lnTo>
                  <a:lnTo>
                    <a:pt x="177" y="220"/>
                  </a:lnTo>
                  <a:lnTo>
                    <a:pt x="300" y="330"/>
                  </a:lnTo>
                  <a:lnTo>
                    <a:pt x="163" y="250"/>
                  </a:lnTo>
                  <a:lnTo>
                    <a:pt x="150" y="439"/>
                  </a:lnTo>
                  <a:lnTo>
                    <a:pt x="136" y="250"/>
                  </a:lnTo>
                  <a:lnTo>
                    <a:pt x="0" y="330"/>
                  </a:lnTo>
                  <a:lnTo>
                    <a:pt x="122" y="220"/>
                  </a:lnTo>
                  <a:lnTo>
                    <a:pt x="0" y="111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99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79360" y="411840"/>
              <a:ext cx="117000" cy="165240"/>
            </a:xfrm>
            <a:custGeom>
              <a:avLst/>
              <a:gdLst/>
              <a:ahLst/>
              <a:rect l="l" t="t" r="r" b="b"/>
              <a:pathLst>
                <a:path w="75" h="111">
                  <a:moveTo>
                    <a:pt x="0" y="26"/>
                  </a:moveTo>
                  <a:lnTo>
                    <a:pt x="30" y="40"/>
                  </a:lnTo>
                  <a:lnTo>
                    <a:pt x="37" y="0"/>
                  </a:lnTo>
                  <a:lnTo>
                    <a:pt x="43" y="40"/>
                  </a:lnTo>
                  <a:lnTo>
                    <a:pt x="74" y="26"/>
                  </a:lnTo>
                  <a:lnTo>
                    <a:pt x="50" y="55"/>
                  </a:lnTo>
                  <a:lnTo>
                    <a:pt x="74" y="81"/>
                  </a:lnTo>
                  <a:lnTo>
                    <a:pt x="43" y="69"/>
                  </a:lnTo>
                  <a:lnTo>
                    <a:pt x="37" y="110"/>
                  </a:lnTo>
                  <a:lnTo>
                    <a:pt x="30" y="69"/>
                  </a:lnTo>
                  <a:lnTo>
                    <a:pt x="0" y="81"/>
                  </a:lnTo>
                  <a:lnTo>
                    <a:pt x="23" y="55"/>
                  </a:lnTo>
                  <a:lnTo>
                    <a:pt x="0" y="26"/>
                  </a:lnTo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352680"/>
            <a:ext cx="9904320" cy="350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475320"/>
            <a:ext cx="9904320" cy="38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2680" y="1142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100" spc="-1" strike="noStrike">
                <a:solidFill>
                  <a:srgbClr val="0000f8"/>
                </a:solidFill>
                <a:latin typeface="Arial"/>
              </a:rPr>
              <a:t>Click to edit the title text format</a:t>
            </a:r>
            <a:endParaRPr b="0" lang="en-US" sz="3100" spc="-1" strike="noStrike">
              <a:solidFill>
                <a:srgbClr val="0000f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74304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lstStyle>
            <a:lvl1pPr marL="216000"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382560" y="6449760"/>
            <a:ext cx="3140280" cy="407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7559280" y="6431040"/>
            <a:ext cx="2063880" cy="42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lstStyle>
            <a:lvl1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lide 2_</a:t>
            </a:r>
            <a:fld id="{6D8893BB-B424-4A52-9EE1-C9BB0E8663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24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0" algn="ctr">
              <a:spcBef>
                <a:spcPts val="476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895320" algn="ctr">
              <a:spcBef>
                <a:spcPts val="425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344600" algn="ctr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792440" algn="ctr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792440"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792440"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96520" y="789120"/>
            <a:ext cx="8139240" cy="251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ru-RU" sz="3200" spc="-1" strike="noStrike">
                <a:solidFill>
                  <a:srgbClr val="0000f8"/>
                </a:solidFill>
                <a:latin typeface="Arial"/>
              </a:rPr>
              <a:t>Стандарты в области безопасности Информационных и Телекоммуникационнных Систем</a:t>
            </a:r>
            <a:endParaRPr b="0" lang="en-US" sz="3200" spc="-1" strike="noStrike">
              <a:solidFill>
                <a:srgbClr val="0000f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112400" y="3055680"/>
            <a:ext cx="6913800" cy="30178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4280" bIns="4428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Silk Security Workshop 200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600"/>
            </a:b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21-24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июня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, 200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Yuri Demchenko,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niversity of Amsterda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&lt;demch@science.uva.nl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01800" y="190440"/>
            <a:ext cx="88200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2700" spc="-1" strike="noStrike">
                <a:solidFill>
                  <a:srgbClr val="0000f8"/>
                </a:solidFill>
                <a:latin typeface="Arial"/>
              </a:rPr>
              <a:t>Безопасность и Реагирование на инциденты безопасности</a:t>
            </a:r>
            <a:endParaRPr b="0" lang="en-US" sz="2700" spc="-1" strike="noStrike">
              <a:solidFill>
                <a:srgbClr val="0000f8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63080" y="1351080"/>
            <a:ext cx="9558360" cy="515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27200" indent="-277920">
              <a:spcBef>
                <a:spcPts val="476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(Техническая) Безопасность представляет собой комплекс технических средств и мер, направленных на обеспечение нормальной работы системы или нормального выполнения поставленной задачи/фунции в условиях непредвиденных внешних факторов и воздействий как умышленных, так и неумышленных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425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В основном, представляет собой профилактические/проактивные мер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425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Нет и  не может быть совершенной безопасност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425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Безопасность стоит денег, и риск оценивается относительно возможного ущерб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0">
              <a:spcBef>
                <a:spcPts val="476"/>
              </a:spcBef>
              <a:buNone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76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еагирование на инциденты безопасности является важным компонентом обеспечения безопасности, хотя является реактивной функцией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425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братная связь к мерам безопасност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425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Необратимость наказани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425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Восстановление потерь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0">
              <a:spcBef>
                <a:spcPts val="476"/>
              </a:spcBef>
              <a:buNone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curity standar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9A5F-D2BB-4665-A91A-1F235EDF6FA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1-24, 2004 Silk Security Worksho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01800" y="190440"/>
            <a:ext cx="88200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2700" spc="-1" strike="noStrike">
                <a:solidFill>
                  <a:srgbClr val="0000f8"/>
                </a:solidFill>
                <a:latin typeface="Arial"/>
              </a:rPr>
              <a:t>Архитектурная концепция безопасности </a:t>
            </a:r>
            <a:r>
              <a:rPr b="0" lang="en-US" sz="2700" spc="-1" strike="noStrike">
                <a:solidFill>
                  <a:srgbClr val="0000f8"/>
                </a:solidFill>
                <a:latin typeface="Arial"/>
              </a:rPr>
              <a:t>ISO 7498-2</a:t>
            </a:r>
            <a:endParaRPr b="0" lang="en-US" sz="2700" spc="-1" strike="noStrike">
              <a:solidFill>
                <a:srgbClr val="0000f8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45800" y="1238400"/>
            <a:ext cx="9558360" cy="515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247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Компоненты и принципы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240" indent="-2692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пределение сервисов и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механизмов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безопасност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85400" indent="-217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Услуги – абстрактные понятия, характеризующие свойства и требования к систем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085400" indent="-217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Механизмы – конкретные меры для реализации услуг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05240" indent="-2692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Уровневая модель построения услуг безопасност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5240" indent="-2692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Соотнесение услуг безопасности к уровневой модел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5240" indent="-2692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Соотнесение механизмов безопасности к услугам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524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47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инципы построения уровневой модели безопасност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240" indent="-2692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Число альтернативных способов обеспечения безопасности должно быть минимизировано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5240" indent="-2692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Услуги безопасности могут работать более чем на одном уровн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5240" indent="-2692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Функции безопасности не должны дублировать существующие аналогичные функции системы, а напротив, использовать их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5240" indent="-2692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рименение механизмов безопасности не должно нарушать независмости уровне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5240" indent="-2692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Количество неконтролируемых/доверительных функций должно быть минимизировано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5240" indent="-2692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Услуги безопасности должны быть определены так, чтобы допускать модульное дополнение к основным сервисам (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lugability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curity standar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437D-A860-4B21-80D8-07D23D4406F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1-24, 2004 Silk Security Worksho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01800" y="190440"/>
            <a:ext cx="88200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2700" spc="-1" strike="noStrike">
                <a:solidFill>
                  <a:srgbClr val="0000f8"/>
                </a:solidFill>
                <a:latin typeface="Arial"/>
              </a:rPr>
              <a:t>Базовые сервисы безопасности </a:t>
            </a:r>
            <a:r>
              <a:rPr b="0" lang="en-US" sz="2700" spc="-1" strike="noStrike">
                <a:solidFill>
                  <a:srgbClr val="0000f8"/>
                </a:solidFill>
                <a:latin typeface="Arial"/>
              </a:rPr>
              <a:t>ISO 7498-2</a:t>
            </a:r>
            <a:endParaRPr b="0" lang="en-US" sz="2700" spc="-1" strike="noStrike">
              <a:solidFill>
                <a:srgbClr val="0000f8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63080" y="1351080"/>
            <a:ext cx="9558360" cy="515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27200" indent="-277920">
              <a:spcBef>
                <a:spcPts val="476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Конфиденциальность –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onfidentialit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76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Аутентификация –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76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Целостность –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ntegrit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76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Контроль доступа –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ccess contro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76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ичастность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«неотпирательство»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on-repudi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76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оступность -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vailabilit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curity standar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F184-86BA-46DC-B1B2-CA75D282A40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1-24, 2004 Silk Security Worksho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01800" y="190440"/>
            <a:ext cx="88200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2700" spc="-1" strike="noStrike">
                <a:solidFill>
                  <a:srgbClr val="0000f8"/>
                </a:solidFill>
                <a:latin typeface="Arial"/>
              </a:rPr>
              <a:t>Общие механизмы безопасности</a:t>
            </a:r>
            <a:r>
              <a:rPr b="0" lang="en-US" sz="2700" spc="-1" strike="noStrike">
                <a:solidFill>
                  <a:srgbClr val="0000f8"/>
                </a:solidFill>
                <a:latin typeface="Arial"/>
              </a:rPr>
              <a:t> ISO 7498-2</a:t>
            </a:r>
            <a:endParaRPr b="0" lang="en-US" sz="2700" spc="-1" strike="noStrike">
              <a:solidFill>
                <a:srgbClr val="0000f8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63080" y="1351080"/>
            <a:ext cx="9558360" cy="515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27200" indent="-277920">
              <a:spcBef>
                <a:spcPts val="476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Шифрование –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ncryp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76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Цифровая подпись –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igital signatu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76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Обеспечение целостности (потоков) данных –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ata (stream) integrit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76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Заполнение трафика –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raffic padd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76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Аутентификация –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76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Контроль доступа –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ccess contro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76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Нотаризация -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otaris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-620640" y="1701720"/>
            <a:ext cx="9558360" cy="51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27200" indent="-27792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curity standar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0F6E-1DA1-4B7B-9496-7DCCD7BEA6C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1-24, 2004 Silk Security Worksho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01800" y="190440"/>
            <a:ext cx="88200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2700" spc="-1" strike="noStrike">
                <a:solidFill>
                  <a:srgbClr val="0000f8"/>
                </a:solidFill>
                <a:latin typeface="Arial"/>
              </a:rPr>
              <a:t>Механизмы безопа</a:t>
            </a:r>
            <a:r>
              <a:rPr b="0" lang="en-US" sz="2700" spc="-1" strike="noStrike">
                <a:solidFill>
                  <a:srgbClr val="0000f8"/>
                </a:solidFill>
                <a:latin typeface="Arial"/>
              </a:rPr>
              <a:t>c</a:t>
            </a:r>
            <a:r>
              <a:rPr b="0" lang="ru-RU" sz="2700" spc="-1" strike="noStrike">
                <a:solidFill>
                  <a:srgbClr val="0000f8"/>
                </a:solidFill>
                <a:latin typeface="Arial"/>
              </a:rPr>
              <a:t>ности </a:t>
            </a:r>
            <a:r>
              <a:rPr b="0" lang="en-US" sz="2700" spc="-1" strike="noStrike">
                <a:solidFill>
                  <a:srgbClr val="0000f8"/>
                </a:solidFill>
                <a:latin typeface="Arial"/>
              </a:rPr>
              <a:t>TCP/IP</a:t>
            </a:r>
            <a:r>
              <a:rPr b="0" lang="en-GB" sz="2700" spc="-1" strike="noStrike">
                <a:solidFill>
                  <a:srgbClr val="0000f8"/>
                </a:solidFill>
                <a:latin typeface="Arial"/>
              </a:rPr>
              <a:t> (</a:t>
            </a:r>
            <a:r>
              <a:rPr b="0" lang="en-US" sz="2700" spc="-1" strike="noStrike">
                <a:solidFill>
                  <a:srgbClr val="0000f8"/>
                </a:solidFill>
                <a:latin typeface="Arial"/>
              </a:rPr>
              <a:t>IETF-</a:t>
            </a:r>
            <a:r>
              <a:rPr b="0" lang="ru-RU" sz="2700" spc="-1" strike="noStrike">
                <a:solidFill>
                  <a:srgbClr val="0000f8"/>
                </a:solidFill>
                <a:latin typeface="Arial"/>
              </a:rPr>
              <a:t>1)</a:t>
            </a:r>
            <a:endParaRPr b="0" lang="en-US" sz="2700" spc="-1" strike="noStrike">
              <a:solidFill>
                <a:srgbClr val="0000f8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63080" y="1351080"/>
            <a:ext cx="9558360" cy="515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27200" indent="-277920">
              <a:spcBef>
                <a:spcPts val="425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One-Time Passwords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- Одноразовый пароль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25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HMAC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Keyed-Hashing for Message Authentication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) - 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RFC2104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374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Механизм аутентификации сообщений на основе секретных ключе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25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IPSec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- RFC2401,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RFC2402,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RFC2406,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RFC2407,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RFC241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374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Базовый проткол шифрования и аутентификации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IP-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уровня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рименяется для защиты коммуникаций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host-to-host, host-to-gateway, gateway-to-gateway.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Является основой для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VPN (Virtual Private Network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25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TLS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 (Transport Layer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ecurity)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Arial Unicode MS"/>
              </a:rPr>
              <a:t>RFC224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374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Обеспечивает зашифрованный, аутентифицируемый канал, который работает поверх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  <a:ea typeface="Arial Unicode MS"/>
              </a:rPr>
              <a:t>TCP.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ерверная часть обычно аутентифицируется при помощи Сертификата открытого ключа (СОК), клиент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  <a:ea typeface="Arial Unicode MS"/>
              </a:rPr>
              <a:t>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может также иметь сертификат и осуществлять взаимную аутентификацию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25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SASL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Simple Authentication and Security Layer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) –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FC 222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374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Обеспечивает сервисы безопасности для протоколов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на основе соединений, в частности,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EP, IMAP, LDAP, POP, SMTP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25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GSS-API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Generic Security Service Application Program Interface)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RFC2744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374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рограммный интерфейс для обеспечения интеграции сервисов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аутентификации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делегирования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защиты сообщений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 базовыми сервисами в распределенных сетевых и вычислительных приложениях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curity standar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0616-C7E8-4B1F-B883-DB2E6AAA4CF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1-24, 2004 Silk Security Worksho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01800" y="190440"/>
            <a:ext cx="88200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2700" spc="-1" strike="noStrike">
                <a:solidFill>
                  <a:srgbClr val="0000f8"/>
                </a:solidFill>
                <a:latin typeface="Arial"/>
              </a:rPr>
              <a:t>Механизмы безопа</a:t>
            </a:r>
            <a:r>
              <a:rPr b="0" lang="en-US" sz="2700" spc="-1" strike="noStrike">
                <a:solidFill>
                  <a:srgbClr val="0000f8"/>
                </a:solidFill>
                <a:latin typeface="Arial"/>
              </a:rPr>
              <a:t>c</a:t>
            </a:r>
            <a:r>
              <a:rPr b="0" lang="ru-RU" sz="2700" spc="-1" strike="noStrike">
                <a:solidFill>
                  <a:srgbClr val="0000f8"/>
                </a:solidFill>
                <a:latin typeface="Arial"/>
              </a:rPr>
              <a:t>ности </a:t>
            </a:r>
            <a:r>
              <a:rPr b="0" lang="en-US" sz="2700" spc="-1" strike="noStrike">
                <a:solidFill>
                  <a:srgbClr val="0000f8"/>
                </a:solidFill>
                <a:latin typeface="Arial"/>
              </a:rPr>
              <a:t>TCP/IP</a:t>
            </a:r>
            <a:r>
              <a:rPr b="0" lang="ru-RU" sz="2700" spc="-1" strike="noStrike">
                <a:solidFill>
                  <a:srgbClr val="0000f8"/>
                </a:solidFill>
                <a:latin typeface="Arial"/>
              </a:rPr>
              <a:t> (2)</a:t>
            </a:r>
            <a:endParaRPr b="0" lang="en-US" sz="2700" spc="-1" strike="noStrike">
              <a:solidFill>
                <a:srgbClr val="0000f8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63080" y="1351080"/>
            <a:ext cx="9558360" cy="515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27200" indent="-277920">
              <a:spcBef>
                <a:spcPts val="476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DNSSEC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- RFC2535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425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озволяет подписывать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NS-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записи, предотвращая возможность подмены ответов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NS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во время транспорта. Теоретически может использоваться для распространения СОК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76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Security/Multipart (S/MIME)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– RFC1847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425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Шифрование и цифровая подпись много-компонентных сообщений электронной почты на основе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K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76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Digital Signatures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- Цифровая подпис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76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OpenPGP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FC2440, RFC3156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425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Шифрование и цифровая подпись сообщений электронной почт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76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Firewalls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- Сетевые экраны как топологический механизм защиты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76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Kerberos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RFC151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425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Механизм взаимной аутентификации и обмена секретными ключам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76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– обесечение безопасного соединения между клиентом и сервером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curity standar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AFFD-7BA9-41FF-BEAD-7F176969309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1-24, 2004 Silk Security Worksho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01800" y="190440"/>
            <a:ext cx="88200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2700" spc="-1" strike="noStrike">
                <a:solidFill>
                  <a:srgbClr val="0000f8"/>
                </a:solidFill>
                <a:latin typeface="Arial"/>
              </a:rPr>
              <a:t>Нерекомендуемые незащищенные механизмы</a:t>
            </a:r>
            <a:endParaRPr b="0" lang="en-US" sz="2700" spc="-1" strike="noStrike">
              <a:solidFill>
                <a:srgbClr val="0000f8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63080" y="1351080"/>
            <a:ext cx="9558360" cy="515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27200" indent="-277920">
              <a:spcBef>
                <a:spcPts val="476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екстовый пароль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  <a:ea typeface="Arial Unicode MS"/>
              </a:rPr>
              <a:t>Plaintext Password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76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Аутентификация на основе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P-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адреса -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  <a:ea typeface="Arial Unicode MS"/>
              </a:rPr>
              <a:t>Address-Based Authentic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76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Аутентификация на основе доменного имени -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Name-Based Authentication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0">
              <a:spcBef>
                <a:spcPts val="476"/>
              </a:spcBef>
              <a:buNone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curity standar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F238-3903-4489-AC55-6EA1B01D018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1-24, 2004 Silk Security Worksho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01800" y="190440"/>
            <a:ext cx="88200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2700" spc="-1" strike="noStrike">
                <a:solidFill>
                  <a:srgbClr val="0000f8"/>
                </a:solidFill>
                <a:latin typeface="Arial"/>
              </a:rPr>
              <a:t>Механизмы безопасности уровня данных </a:t>
            </a:r>
            <a:br>
              <a:rPr sz="2700"/>
            </a:br>
            <a:r>
              <a:rPr b="0" lang="ru-RU" sz="2700" spc="-1" strike="noStrike">
                <a:solidFill>
                  <a:srgbClr val="0000f8"/>
                </a:solidFill>
                <a:latin typeface="Arial"/>
              </a:rPr>
              <a:t>группы </a:t>
            </a:r>
            <a:r>
              <a:rPr b="0" lang="en-US" sz="2700" spc="-1" strike="noStrike">
                <a:solidFill>
                  <a:srgbClr val="0000f8"/>
                </a:solidFill>
                <a:latin typeface="Arial"/>
              </a:rPr>
              <a:t>IEEE 802</a:t>
            </a:r>
            <a:endParaRPr b="0" lang="en-US" sz="2700" spc="-1" strike="noStrike">
              <a:solidFill>
                <a:srgbClr val="0000f8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63080" y="1351080"/>
            <a:ext cx="9558360" cy="515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4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IEEE 802.1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расширяет архитектуру безопасности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ISO 7498-2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 целью добавления сервисов безопасности Аутентификации, Контроля доступа и Целостности данных к уровням данных и сетевому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IEEE 802.1X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Определяет механизмы аутентификации с использованием сетевых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ортов, использует динамическое распределение сеансовых ключей для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WEP-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шифрования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Использует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AP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ля аутентификаци и обычно использует сервер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RADIU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IEEE 802.11i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Будущий стандарт безопасности, который использует механизм аутентификации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802.1X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и добавляет стандарт шифрования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A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WPA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Wi-Fi Protected Access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еханизм шифрования, который устраняет уязвимости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WEP. WPA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акже использует механизмы аутентификации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802.1X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EAP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(Extensible authentication protocol):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отокол «точка-точка», который поддерживает множественные механизмы аутентификации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Имеет реализации для множества ОС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TKIP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Temporal key integrity protocol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): используется в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тандартах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802.1X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WPA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ля аутентификации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страняет проблемы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WEP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WEP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Wired equivalent privacy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отокол безопасности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802.11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ля беспроводных сетей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curity standar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DF55-40C4-44B0-922A-C4049A14A95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1-24, 2004 Silk Security Worksho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01800" y="190440"/>
            <a:ext cx="88200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2700" spc="-1" strike="noStrike">
                <a:solidFill>
                  <a:srgbClr val="0000f8"/>
                </a:solidFill>
                <a:latin typeface="Arial"/>
              </a:rPr>
              <a:t>Remote Access Dialin User Service (RADIUS)</a:t>
            </a:r>
            <a:endParaRPr b="0" lang="en-US" sz="2700" spc="-1" strike="noStrike">
              <a:solidFill>
                <a:srgbClr val="0000f8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63080" y="1351080"/>
            <a:ext cx="9558360" cy="515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4800" indent="0">
              <a:spcBef>
                <a:spcPts val="524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RADIUS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широко используется для контроля доступа удаленных пользователей, включая аутентификацию, авторизацию и учет (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AA -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authentication, authorization, accounting)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76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FC 2865, RFC 2869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76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RADIUS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определяет собственный механизм аутентификации и защиты целостности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а также обеспечения конфиденциальности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определенных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крытых параметров»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. 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76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ервер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RADIUS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используется как центральный сервер аутентификации, который хранит или имеет доступ к базе данных пользователей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425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Сервер доступа запрашивает данные идентифицирующие пользователя (напр., имя, пароль) и формирует запрос к серверу 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RADIU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425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ADIUS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роверяет условия доступа для конкретного пользователя (как минимум, имя и пароль ) и выдает положительное и отрицательное решени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568520" indent="-22392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Может запрашивать другие серверы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ADIU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425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Выполняет также функцию учета времени работы пользователя и биллинг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curity standar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14F5-966F-4D15-8B4E-5F441897728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1-24, 2004 Silk Security Worksho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01800" y="190440"/>
            <a:ext cx="88200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2700" spc="-1" strike="noStrike">
                <a:solidFill>
                  <a:srgbClr val="0000f8"/>
                </a:solidFill>
                <a:latin typeface="Arial"/>
              </a:rPr>
              <a:t>Authentication, Authorisation, Accounting (AAA)</a:t>
            </a:r>
            <a:endParaRPr b="0" lang="en-US" sz="2700" spc="-1" strike="noStrike">
              <a:solidFill>
                <a:srgbClr val="0000f8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63080" y="1351080"/>
            <a:ext cx="9558360" cy="515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27200" indent="-277920">
              <a:spcBef>
                <a:spcPts val="476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Группа стандартов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определяющих архитектуру и инфраструктуру распределенных сервисов аутентификации, авторизации и учет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425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RFC 2903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Generic AAA Architectu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425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RFC 2904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AAA Authorization Framewor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425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RFC 2905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AAA Authorization Application Exampl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425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RFC 2906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AAA Authorization Requirem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425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RFC 3334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Policy based account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76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Базовая архитектура нашла внедрение и развивается для мобильных сетевых приложений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76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900" spc="-1" strike="noStrike">
                <a:solidFill>
                  <a:srgbClr val="0000f8"/>
                </a:solidFill>
                <a:latin typeface="Arial"/>
              </a:rPr>
              <a:t>Дальнейшее развитие в направлении авторизации и контроля доступа на основе политики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curity standar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C50D-031F-4A47-9441-227A8E178BF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1-24, 2004 Silk Security Worksho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01800" y="190440"/>
            <a:ext cx="88200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2700" spc="-1" strike="noStrike">
                <a:solidFill>
                  <a:srgbClr val="0000f8"/>
                </a:solidFill>
                <a:latin typeface="Arial"/>
              </a:rPr>
              <a:t>Содержание</a:t>
            </a:r>
            <a:endParaRPr b="0" lang="en-US" sz="2700" spc="-1" strike="noStrike">
              <a:solidFill>
                <a:srgbClr val="0000f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3080" y="1351080"/>
            <a:ext cx="9558360" cy="515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27200" indent="-277920"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изации стандарт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дель Взаимодействия Открытых Систе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рхитектура безопасности открытых систем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O 7498-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ханизмы безопасности уровня данны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упп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8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ндарты и механизмы безопасности Интерн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ндарты в области реагирования на компьютерные инциденты безопас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фраструктура открытых ключей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хнологии безопасности на основе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ременные технологии аутентификации и автор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curity standar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131A-1272-434C-B728-B070E5FDC2B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1-24, 2004 Silk Security Worksho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01800" y="190440"/>
            <a:ext cx="88200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2700" spc="-1" strike="noStrike">
                <a:solidFill>
                  <a:srgbClr val="0000f8"/>
                </a:solidFill>
                <a:latin typeface="Arial"/>
              </a:rPr>
              <a:t>Стандарты в области реагирования на компьютерные инциденты безопасности (1)</a:t>
            </a:r>
            <a:endParaRPr b="0" lang="en-US" sz="2700" spc="-1" strike="noStrike">
              <a:solidFill>
                <a:srgbClr val="0000f8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63080" y="1351080"/>
            <a:ext cx="9558360" cy="515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4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RFC 2196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Site Security Handbook (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на замену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RFC1244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Руководство по составлению политики безопасности и поддерживающих методик для систем, подключенных к Интерне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RFC 2350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Expectation for Security Incident Response Team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писывает, что пользователи Интернет должны ожидать от служб реагирования на компьютерные инциденты безопасности. Предоставляет методику как организовать Центр реагирования на компьютерные инциденты безопасности (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CSIRT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Computer Security Incident Response Team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и базовые документы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олитика безопасности, Политика реагирования на инциденты безопасности, и други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RFC2505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Users' Security Handbook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Руководство пользователям по обеспечению безопасности информации, данных, и телекоммуникаци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RFC3013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Recommended Internet Service Provider Security Services and Procedur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писывает в форме рекоммендаций, что пользователи Интернет могут ожидать (и требовать) от Интернет сервис- провайдеров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RFC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3227 -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Guidelines for Evidence Collection and Archiving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Рекомендации по сбору и хранению улик и другой информации, связанной с компьютерными инцидентами безопасност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curity standar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B8BA-94C5-404E-9E80-A9AD51BDFDF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1-24, 2004 Silk Security Worksho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01800" y="190440"/>
            <a:ext cx="88200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2700" spc="-1" strike="noStrike">
                <a:solidFill>
                  <a:srgbClr val="0000f8"/>
                </a:solidFill>
                <a:latin typeface="Arial"/>
              </a:rPr>
              <a:t>Стандарты в области реагирования на компьютерные инциденты безопасности (2)</a:t>
            </a:r>
            <a:endParaRPr b="0" lang="en-US" sz="2700" spc="-1" strike="noStrike">
              <a:solidFill>
                <a:srgbClr val="0000f8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63080" y="1351080"/>
            <a:ext cx="9558360" cy="515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4800" indent="0">
              <a:lnSpc>
                <a:spcPct val="93000"/>
              </a:lnSpc>
              <a:spcBef>
                <a:spcPts val="524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Форматы для описания и обмена информацией о компьютерных инцидентах безопасност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lnSpc>
                <a:spcPct val="93000"/>
              </a:lnSpc>
              <a:spcBef>
                <a:spcPts val="476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DMEF – Intrusion Detection Message Exchange Forma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lnSpc>
                <a:spcPct val="93000"/>
              </a:lnSpc>
              <a:spcBef>
                <a:spcPts val="476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ODEF – Incident Object Description and Exchange Format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425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RFC3067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Incident Object Description and Exchange Format (IODEF) Requirement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lnSpc>
                <a:spcPct val="93000"/>
              </a:lnSpc>
              <a:spcBef>
                <a:spcPts val="476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Новый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RID – Real-time Internetwork Defense (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оддерживается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US AFC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lnSpc>
                <a:spcPct val="93000"/>
              </a:lnSpc>
              <a:spcBef>
                <a:spcPts val="374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роследить источник атаки и остановить или уменьшить влияние атак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spcBef>
                <a:spcPts val="524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spcBef>
                <a:spcPts val="524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RFC 2828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Internet Security Glossary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25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Содержит расширенный список терминов по безопасности как из области операционной и реагирования на компьютерные инциденты безопасности, так и из области технологий безопасности данных и приложени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curity standar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2715-9E24-4C02-96F0-A473992BAFC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1-24, 2004 Silk Security Worksho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01800" y="190440"/>
            <a:ext cx="88200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2600" spc="-1" strike="noStrike">
                <a:solidFill>
                  <a:srgbClr val="0000f8"/>
                </a:solidFill>
                <a:latin typeface="Arial"/>
              </a:rPr>
              <a:t>ISO/IEC 17799-1 – Code of Practice for Information Security Management</a:t>
            </a:r>
            <a:endParaRPr b="0" lang="en-US" sz="2600" spc="-1" strike="noStrike">
              <a:solidFill>
                <a:srgbClr val="0000f8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63080" y="1351080"/>
            <a:ext cx="9558360" cy="515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4800" indent="0">
              <a:spcBef>
                <a:spcPts val="425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ISO17799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– детальный документ, описывающий рекомендуемые меры и методы обеспечения безопасности и имеет следющие раздел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spcBef>
                <a:spcPts val="425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0">
              <a:spcBef>
                <a:spcPts val="425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. Business Continuity Plann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0">
              <a:spcBef>
                <a:spcPts val="425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2. System Access Contro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0">
              <a:spcBef>
                <a:spcPts val="425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3. System Development and Maintenan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0">
              <a:spcBef>
                <a:spcPts val="425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4. Physical and Environmental Securit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0">
              <a:spcBef>
                <a:spcPts val="425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5. Complian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0">
              <a:spcBef>
                <a:spcPts val="425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6. Personnel Securit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0">
              <a:spcBef>
                <a:spcPts val="425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7. Security Organis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0">
              <a:spcBef>
                <a:spcPts val="425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8. Computer &amp; Network Manageme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0">
              <a:spcBef>
                <a:spcPts val="425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9. Asset Classification and Contro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0">
              <a:spcBef>
                <a:spcPts val="425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10. Security Polic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spcBef>
                <a:spcPts val="425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spcBef>
                <a:spcPts val="425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ISO17799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составляет основу для многих методик аудита и анализа рисков компьютерных систем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curity standar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77DA-26AE-4ED5-9165-36F314ABE33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1-24, 2004 Silk Security Worksho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01800" y="190440"/>
            <a:ext cx="88200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2700" spc="-1" strike="noStrike">
                <a:solidFill>
                  <a:srgbClr val="0000f8"/>
                </a:solidFill>
                <a:latin typeface="Arial"/>
              </a:rPr>
              <a:t>Основы </a:t>
            </a:r>
            <a:r>
              <a:rPr b="0" lang="nl-NL" sz="2700" spc="-1" strike="noStrike">
                <a:solidFill>
                  <a:srgbClr val="0000f8"/>
                </a:solidFill>
                <a:latin typeface="Arial"/>
              </a:rPr>
              <a:t>PKI </a:t>
            </a:r>
            <a:endParaRPr b="0" lang="en-US" sz="2700" spc="-1" strike="noStrike">
              <a:solidFill>
                <a:srgbClr val="0000f8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63080" y="1351080"/>
            <a:ext cx="9558360" cy="515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4800" indent="0">
              <a:spcBef>
                <a:spcPts val="524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PKI (Public Key Infrastructure) –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нфраструктура открытых ключей (ИОК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76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FC 2459, RFC 2560, RFC 3280, RFC 3647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76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Основа ИОК – Сертификат открытого ключа (СОК, </a:t>
            </a:r>
            <a:r>
              <a:rPr b="0" lang="nl-NL" sz="1900" spc="-1" strike="noStrike">
                <a:solidFill>
                  <a:srgbClr val="000000"/>
                </a:solidFill>
                <a:latin typeface="Arial"/>
              </a:rPr>
              <a:t>PKC - Public Key Certificate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о стандарту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X.509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ITU-T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425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Другие компоненты: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P – Certificate Policy,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CRL – Certificate Revocation Lis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76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вязывает идентификатор (имя собственное, </a:t>
            </a:r>
            <a:r>
              <a:rPr b="0" lang="nl-NL" sz="1900" spc="-1" strike="noStrike">
                <a:solidFill>
                  <a:srgbClr val="000000"/>
                </a:solidFill>
                <a:latin typeface="Arial"/>
              </a:rPr>
              <a:t>distinguished name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) субьекта с его открытым ключом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425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KC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подписывается цифровой подписью Центра удостоверения (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A - </a:t>
            </a: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Certification Authority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76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Компоненты ИОК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425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Identification Service (I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425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Registration Authority (RA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425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Certification Authority (CA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425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Certificate Repository (CR), normally built on LDAP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curity standar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2F38-F009-488B-AB39-91486EFB6B8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1-24, 2004 Silk Security Worksho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01800" y="190440"/>
            <a:ext cx="88200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2700" spc="-1" strike="noStrike">
                <a:solidFill>
                  <a:srgbClr val="0000f8"/>
                </a:solidFill>
                <a:latin typeface="Arial"/>
              </a:rPr>
              <a:t>PKC vs AC: </a:t>
            </a:r>
            <a:r>
              <a:rPr b="0" lang="ru-RU" sz="2700" spc="-1" strike="noStrike">
                <a:solidFill>
                  <a:srgbClr val="0000f8"/>
                </a:solidFill>
                <a:latin typeface="Arial"/>
              </a:rPr>
              <a:t>Цели</a:t>
            </a:r>
            <a:endParaRPr b="0" lang="en-US" sz="2700" spc="-1" strike="noStrike">
              <a:solidFill>
                <a:srgbClr val="0000f8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63080" y="1351080"/>
            <a:ext cx="9558360" cy="515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27200" indent="-277920">
              <a:spcBef>
                <a:spcPts val="476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X.509 PKC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вязывает идентификатор субьекта и его открытый ключ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425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KC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подписывается цифровой подписью Центра удостоверения (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A - </a:t>
            </a: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Certification Authority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76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ертификат Атрибутов (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C – Attribute Certificate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вязывает идентификатор субьекта с его атрибутам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425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подписывается цифровой подписью Центра удостоверения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трибутов (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A - </a:t>
            </a: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Attribute Authority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76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AC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является компонентом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X.509 Role-based PM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425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AC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не содержит открытого ключ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425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AC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может содержать атрибуты, которые характеризуют принадлежность субьекта к определенной группе, его роль, уровень доступа (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security clearance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или другую информацию для авторизаци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76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PKC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используется для аутентификации, а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AC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– для авторизаци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425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AC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может содержаться в ответе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сервера аутентификаци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76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Аналогия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: PKC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- как паспорт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AC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– как виз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curity standar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D7AA-D870-4A26-8118-7B3B6603767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1-24, 2004 Silk Security Worksho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01800" y="190440"/>
            <a:ext cx="88200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2800" spc="-1" strike="noStrike">
                <a:solidFill>
                  <a:srgbClr val="0000f8"/>
                </a:solidFill>
                <a:latin typeface="Arial"/>
              </a:rPr>
              <a:t>PKC vs AC: Certificates structure</a:t>
            </a:r>
            <a:endParaRPr b="0" lang="en-US" sz="2800" spc="-1" strike="noStrike">
              <a:solidFill>
                <a:srgbClr val="0000f8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63440" y="1351080"/>
            <a:ext cx="4702320" cy="515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X.509 PK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76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Vers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76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rial numb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76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ignatu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76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ssu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76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Validit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76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ubjec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76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ubject Public key inf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76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ssuer unique identifi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76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xtension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018040" y="1351080"/>
            <a:ext cx="4703760" cy="515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X.509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76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Vers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76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Hold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76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Issu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76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Signatu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76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Serial numb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76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Validit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76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76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Issuer unique I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76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Extension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curity standard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3507-E7FE-4E96-80B9-1A8304329217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1-24, 2004 Silk Security Worksho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01800" y="190440"/>
            <a:ext cx="88200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2800" spc="-1" strike="noStrike">
                <a:solidFill>
                  <a:srgbClr val="0000f8"/>
                </a:solidFill>
                <a:latin typeface="Arial"/>
              </a:rPr>
              <a:t>X.509 PKC Fields and Extensions – RFC 3280</a:t>
            </a:r>
            <a:endParaRPr b="0" lang="en-US" sz="2800" spc="-1" strike="noStrike">
              <a:solidFill>
                <a:srgbClr val="0000f8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12760" y="1333080"/>
            <a:ext cx="4702320" cy="243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X.509 PKC Field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25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rial Numb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25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ubjec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25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ubject Public Ke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25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ssuer Unique I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25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ubject Unique I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018040" y="1351080"/>
            <a:ext cx="4703760" cy="515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X.509 PKC Extens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25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tandard Extens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374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uthority Key Identifi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374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ubject Key Identifi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374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Key Usag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374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xtended Key Usag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374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RL Distribution Lis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374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ivate Key Usage Perio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374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ertificate Polici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374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olicy Mapping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374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ubject Alternative Nam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374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ssuer Alternative Nam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374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ubject Directory Attribut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374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asic Constrai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374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Name Constrai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14200" y="4027320"/>
            <a:ext cx="4702320" cy="243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X.509 PKC Fields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200" indent="-27792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ivate Extensions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240" indent="-2239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uthority Information Acces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240" indent="-2239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ubject Information Acces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200" indent="-27792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ustom Extensions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curity standard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5A2C-1B28-4884-8463-FE59C550B1A2}" type="slidenum">
              <a:t>2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1-24, 2004 Silk Security Worksho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01800" y="190440"/>
            <a:ext cx="88200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2700" spc="-1" strike="noStrike">
                <a:solidFill>
                  <a:srgbClr val="0000f8"/>
                </a:solidFill>
                <a:latin typeface="Arial"/>
              </a:rPr>
              <a:t>AC Attribute Types and AC Extensions</a:t>
            </a:r>
            <a:endParaRPr b="0" lang="en-US" sz="2700" spc="-1" strike="noStrike">
              <a:solidFill>
                <a:srgbClr val="0000f8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63440" y="1351080"/>
            <a:ext cx="4702320" cy="515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C Attribute Typ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76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rvice Authentication Inform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76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ccess Identit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76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harging Identit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76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76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Rol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76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learanc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76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ofile of AC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0">
              <a:spcBef>
                <a:spcPts val="476"/>
              </a:spcBef>
              <a:buNone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018040" y="1351080"/>
            <a:ext cx="4703760" cy="515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C Extension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76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udit Identit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425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o protect privacy and provide anonymity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425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y be traceable via AC issu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76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C Target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76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uthority Key Identifi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76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uthority Information Acces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76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RL Distribution Poin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curity standard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4412-3CC9-40F8-8547-F58FC1A60FAC}" type="slidenum">
              <a:t>2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1-24, 2004 Silk Security Worksho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01800" y="190440"/>
            <a:ext cx="88200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2700" spc="-1" strike="noStrike">
                <a:solidFill>
                  <a:srgbClr val="0000f8"/>
                </a:solidFill>
                <a:latin typeface="Arial"/>
              </a:rPr>
              <a:t>Безопасность приложений на основе </a:t>
            </a:r>
            <a:r>
              <a:rPr b="0" lang="en-GB" sz="2700" spc="-1" strike="noStrike">
                <a:solidFill>
                  <a:srgbClr val="0000f8"/>
                </a:solidFill>
                <a:latin typeface="Arial"/>
              </a:rPr>
              <a:t>XML </a:t>
            </a:r>
            <a:r>
              <a:rPr b="0" lang="uk-UA" sz="2700" spc="-1" strike="noStrike">
                <a:solidFill>
                  <a:srgbClr val="0000f8"/>
                </a:solidFill>
                <a:latin typeface="Arial"/>
              </a:rPr>
              <a:t>и традиционная модель сетевой безопасности</a:t>
            </a:r>
            <a:endParaRPr b="0" lang="en-US" sz="2700" spc="-1" strike="noStrike">
              <a:solidFill>
                <a:srgbClr val="0000f8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63080" y="1351080"/>
            <a:ext cx="9558360" cy="515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4800" indent="0">
              <a:spcBef>
                <a:spcPts val="476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радиционная модель сетевой безопасности (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ISO7498-2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25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Host-to-host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point-to-point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безопасность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25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риентированная на архитектуру клиент/сервер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25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риентированные на коммуникации с соединением </a:t>
            </a: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(connection-oriented)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или без соединения </a:t>
            </a: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(connectionles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25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В общем случае единый доверительный домен (на основе </a:t>
            </a: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PKI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spcBef>
                <a:spcPts val="476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spcBef>
                <a:spcPts val="476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Безопасность</a:t>
            </a:r>
            <a:r>
              <a:rPr b="0" lang="nl-NL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иложений</a:t>
            </a:r>
            <a:r>
              <a:rPr b="0" lang="nl-NL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на основе 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25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Безопасность между конечными точками или приложениями (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end-to-end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25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риентированна на документ (или семантический обьект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374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Мандаты и маркеры безопасности могут быть ассоциированы с документом или сообщением или их частью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25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Существующие технологии 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WS-Security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беспечивают безопасность между разными административными доменами и доменами безопасност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25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озволяет создавать динамические и виртуальные ассоциации безопасност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curity standar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61F1-433A-4D4B-9A9A-C23A30A2FC1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1-24, 2004 Silk Security Worksho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01800" y="190440"/>
            <a:ext cx="88200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uk-UA" sz="2700" spc="-1" strike="noStrike">
                <a:solidFill>
                  <a:srgbClr val="0000f8"/>
                </a:solidFill>
                <a:latin typeface="Arial"/>
              </a:rPr>
              <a:t>Компонент</a:t>
            </a:r>
            <a:r>
              <a:rPr b="0" lang="ru-RU" sz="2700" spc="-1" strike="noStrike">
                <a:solidFill>
                  <a:srgbClr val="0000f8"/>
                </a:solidFill>
                <a:latin typeface="Arial"/>
              </a:rPr>
              <a:t>ы безопасности </a:t>
            </a:r>
            <a:r>
              <a:rPr b="0" lang="en-GB" sz="2700" spc="-1" strike="noStrike">
                <a:solidFill>
                  <a:srgbClr val="0000f8"/>
                </a:solidFill>
                <a:latin typeface="Arial"/>
              </a:rPr>
              <a:t>XML - </a:t>
            </a:r>
            <a:r>
              <a:rPr b="0" lang="ru-RU" sz="2700" spc="-1" strike="noStrike">
                <a:solidFill>
                  <a:srgbClr val="0000f8"/>
                </a:solidFill>
                <a:latin typeface="Arial"/>
              </a:rPr>
              <a:t>приложений</a:t>
            </a:r>
            <a:endParaRPr b="0" lang="en-US" sz="2700" spc="-1" strike="noStrike">
              <a:solidFill>
                <a:srgbClr val="0000f8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63080" y="1351080"/>
            <a:ext cx="9558360" cy="515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27200" indent="-277920">
              <a:spcBef>
                <a:spcPts val="524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XML Signatu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524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XML Encryp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524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екларации безопасности (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Security Assertion</a:t>
            </a: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476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SAML (Security Assertion Mark-up Language)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476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XACML (XML Access Control Mark-up Languag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524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XKMS (XML Key Management Specification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524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Архитектурные расширен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476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Web Services Security (WS-Security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476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OGSA Securit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spcBef>
                <a:spcPts val="476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curity standar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922C-8CFA-414F-A9EE-8D0C6302C8A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1-24, 2004 Silk Security Worksho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01800" y="190440"/>
            <a:ext cx="88200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2700" spc="-1" strike="noStrike">
                <a:solidFill>
                  <a:srgbClr val="0000f8"/>
                </a:solidFill>
                <a:latin typeface="Arial"/>
              </a:rPr>
              <a:t>Организации стандартизации</a:t>
            </a:r>
            <a:endParaRPr b="0" lang="en-US" sz="2700" spc="-1" strike="noStrike">
              <a:solidFill>
                <a:srgbClr val="0000f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3080" y="1351080"/>
            <a:ext cx="9558360" cy="515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27200" indent="-27792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ISO/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EC,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IEEE: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бщие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архитектурные вопросы безопасност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тандарты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SO/IEC, IEE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ITU (International Telecommunication Union):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тандарты безопасности телекоммуникационных систем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тандарты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X, V, T, H, etc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IETF (Internet Engineering Task Force):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тандарты безопасности Интернет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(RFC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ASIS (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Organization for the Advancement of Structured Information Standards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: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тандарты безопасности на основе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(для бизнес-приложений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NIST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CEN, ETSI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ациональные и региональные стандарты безопасности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ругие специализированные консорциумы и форум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GGF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(Global Grid Forum)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- стандарты для Грид-приложений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iberty Alliance Project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– Атентификация и идентификация в Интернет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curity standar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FDFC-7674-4616-BFFF-12802CE8AAE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1-24, 2004 Silk Security Worksho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01800" y="190440"/>
            <a:ext cx="88200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2700" spc="-1" strike="noStrike">
                <a:solidFill>
                  <a:srgbClr val="0000f8"/>
                </a:solidFill>
                <a:latin typeface="Arial"/>
              </a:rPr>
              <a:t>Основные черты </a:t>
            </a:r>
            <a:r>
              <a:rPr b="0" lang="en-GB" sz="2700" spc="-1" strike="noStrike">
                <a:solidFill>
                  <a:srgbClr val="0000f8"/>
                </a:solidFill>
                <a:latin typeface="Arial"/>
              </a:rPr>
              <a:t>XML</a:t>
            </a:r>
            <a:r>
              <a:rPr b="0" lang="ru-RU" sz="2700" spc="-1" strike="noStrike">
                <a:solidFill>
                  <a:srgbClr val="0000f8"/>
                </a:solidFill>
                <a:latin typeface="Arial"/>
              </a:rPr>
              <a:t>-подписи</a:t>
            </a:r>
            <a:endParaRPr b="0" lang="en-US" sz="2700" spc="-1" strike="noStrike">
              <a:solidFill>
                <a:srgbClr val="0000f8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63080" y="1351080"/>
            <a:ext cx="9558360" cy="515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4800" indent="0">
              <a:spcBef>
                <a:spcPts val="524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Фундаментальная черта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озможность подписывать отдельные части документа так же как и целый документ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76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-документ может иметь длинную историю, при этом различные части документа могут создаваться и «визироваться» различными субьектами и в различное врем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76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азличные стороны/субьекты могут иметь полномочия подписывать только различные части документ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76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озволяет сохранять целостность одних частей документа и иметь возможность изменять другие части документ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76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озволяет присоединять маркеры/мандаты безопасности к документу в отличие от использования безопасного соединения клиент/сервер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76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-подпись обеспечивает сервисы безопасности для протоколов, основанных на </a:t>
            </a:r>
            <a:r>
              <a:rPr b="0" lang="nl-NL" sz="19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425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 также основу для включения информации о состоянии, контексте безопасности, истории (принятия решений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spcBef>
                <a:spcPts val="524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curity standar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7B8E-B74D-40A6-A648-B8253AD5F36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1-24, 2004 Silk Security Worksho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01800" y="190440"/>
            <a:ext cx="88200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2700" spc="-1" strike="noStrike">
                <a:solidFill>
                  <a:srgbClr val="0000f8"/>
                </a:solidFill>
                <a:latin typeface="Arial"/>
              </a:rPr>
              <a:t>Шифрование файла и</a:t>
            </a:r>
            <a:r>
              <a:rPr b="0" lang="en-US" sz="2700" spc="-1" strike="noStrike">
                <a:solidFill>
                  <a:srgbClr val="0000f8"/>
                </a:solidFill>
                <a:latin typeface="Arial"/>
              </a:rPr>
              <a:t> XML</a:t>
            </a:r>
            <a:r>
              <a:rPr b="0" lang="ru-RU" sz="2700" spc="-1" strike="noStrike">
                <a:solidFill>
                  <a:srgbClr val="0000f8"/>
                </a:solidFill>
                <a:latin typeface="Arial"/>
              </a:rPr>
              <a:t>-шифрование</a:t>
            </a:r>
            <a:endParaRPr b="0" lang="en-US" sz="2700" spc="-1" strike="noStrike">
              <a:solidFill>
                <a:srgbClr val="0000f8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50480" y="5814720"/>
            <a:ext cx="9558360" cy="74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4800" indent="0">
              <a:spcBef>
                <a:spcPts val="374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Для много-пользовательского шифрования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ocument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может содержать ключ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для дешифрации (симметричный или асимметричный), зашифрованный при  помощи ОК всех целевых получателей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08080" y="1390680"/>
            <a:ext cx="803160" cy="903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39400" y="1427040"/>
            <a:ext cx="698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leA/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689120" y="1407960"/>
            <a:ext cx="803160" cy="903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681920" y="1444680"/>
            <a:ext cx="819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Шифр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/для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bK 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49720" y="1397160"/>
            <a:ext cx="1071360" cy="103824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241800" y="1395360"/>
            <a:ext cx="1055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шифр. файл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pubK B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054760" y="1395360"/>
            <a:ext cx="803160" cy="903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038920" y="1432080"/>
            <a:ext cx="956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ешифр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ivK 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396120" y="1384200"/>
            <a:ext cx="803160" cy="903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427440" y="1420920"/>
            <a:ext cx="698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leA/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262320" y="3627360"/>
            <a:ext cx="1255680" cy="1487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32200" y="3614760"/>
            <a:ext cx="63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c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19240" y="2371680"/>
            <a:ext cx="143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льзователь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нае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pubK B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346800" y="191304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er 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71360" y="3606840"/>
            <a:ext cx="803520" cy="903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262320" y="3703680"/>
            <a:ext cx="977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шифр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предел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част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121280" y="3975120"/>
            <a:ext cx="341280" cy="45072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114800" y="4579920"/>
            <a:ext cx="341280" cy="45072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921120" y="4348080"/>
            <a:ext cx="341280" cy="45108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476360" y="3597120"/>
            <a:ext cx="1241280" cy="133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70600" y="3633840"/>
            <a:ext cx="1195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Шифровать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предел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часть для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предел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лучател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2280" y="4935600"/>
            <a:ext cx="2157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льзователь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нает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pubK B,C, D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024520" y="3132000"/>
            <a:ext cx="803160" cy="903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983120" y="3168720"/>
            <a:ext cx="906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ешифр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ivK 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402240" y="3108240"/>
            <a:ext cx="803520" cy="903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408720" y="310824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c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461360" y="3005280"/>
            <a:ext cx="2265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льзователь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B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ожет проочитать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есь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c1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дешифровать только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часть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78520" y="4297320"/>
            <a:ext cx="803160" cy="903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050080" y="4308480"/>
            <a:ext cx="906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ешифр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ivK 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419880" y="4273560"/>
            <a:ext cx="803160" cy="903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364080" y="424800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c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143240" y="4029120"/>
            <a:ext cx="27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56040" y="4414680"/>
            <a:ext cx="27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189320" y="4778280"/>
            <a:ext cx="27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6719760" y="3451320"/>
            <a:ext cx="473040" cy="536760"/>
            <a:chOff x="6719760" y="3451320"/>
            <a:chExt cx="473040" cy="536760"/>
          </a:xfrm>
        </p:grpSpPr>
        <p:sp>
          <p:nvSpPr>
            <p:cNvPr id="365" name=""/>
            <p:cNvSpPr/>
            <p:nvPr/>
          </p:nvSpPr>
          <p:spPr>
            <a:xfrm>
              <a:off x="6913440" y="3683160"/>
              <a:ext cx="268200" cy="2923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719760" y="3451320"/>
              <a:ext cx="255600" cy="3175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729480" y="3505320"/>
              <a:ext cx="27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915240" y="3711600"/>
              <a:ext cx="27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894360" y="4444920"/>
            <a:ext cx="289080" cy="695520"/>
            <a:chOff x="6894360" y="4444920"/>
            <a:chExt cx="289080" cy="695520"/>
          </a:xfrm>
        </p:grpSpPr>
        <p:sp>
          <p:nvSpPr>
            <p:cNvPr id="370" name=""/>
            <p:cNvSpPr/>
            <p:nvPr/>
          </p:nvSpPr>
          <p:spPr>
            <a:xfrm>
              <a:off x="6894360" y="4835520"/>
              <a:ext cx="268200" cy="29196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895800" y="4444920"/>
              <a:ext cx="255600" cy="3175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905520" y="4498920"/>
              <a:ext cx="27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895800" y="4863960"/>
              <a:ext cx="27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1047600" y="185256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430880" y="190656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509920" y="191448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923080" y="1887480"/>
            <a:ext cx="426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892840" y="3562200"/>
            <a:ext cx="426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923080" y="4813200"/>
            <a:ext cx="426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015920" y="4086360"/>
            <a:ext cx="426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776680" y="4276800"/>
            <a:ext cx="426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4559400" y="3681360"/>
            <a:ext cx="414360" cy="487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59400" y="4572000"/>
            <a:ext cx="476280" cy="279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431120" y="1401840"/>
            <a:ext cx="2155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олько пользователь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ожет прочитать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FileA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 помощи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vK 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469280" y="4194000"/>
            <a:ext cx="2265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льзователь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ожет прочитать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есь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c1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дешифровать только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часть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curity standar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08B1-EB9E-44E4-AE6F-F98BA2E793E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1-24, 2004 Silk Security Worksho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01800" y="190440"/>
            <a:ext cx="88200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2700" spc="-1" strike="noStrike">
                <a:solidFill>
                  <a:srgbClr val="0000f8"/>
                </a:solidFill>
                <a:latin typeface="Arial"/>
              </a:rPr>
              <a:t>Связывание атрибутов</a:t>
            </a:r>
            <a:r>
              <a:rPr b="0" lang="en-US" sz="2700" spc="-1" strike="noStrike">
                <a:solidFill>
                  <a:srgbClr val="0000f8"/>
                </a:solidFill>
                <a:latin typeface="Arial"/>
              </a:rPr>
              <a:t> </a:t>
            </a:r>
            <a:r>
              <a:rPr b="0" lang="ru-RU" sz="2700" spc="-1" strike="noStrike">
                <a:solidFill>
                  <a:srgbClr val="0000f8"/>
                </a:solidFill>
                <a:latin typeface="Arial"/>
              </a:rPr>
              <a:t>с документом при помощи</a:t>
            </a:r>
            <a:r>
              <a:rPr b="0" lang="en-US" sz="2700" spc="-1" strike="noStrike">
                <a:solidFill>
                  <a:srgbClr val="0000f8"/>
                </a:solidFill>
                <a:latin typeface="Arial"/>
              </a:rPr>
              <a:t> XMLSig</a:t>
            </a:r>
            <a:endParaRPr b="0" lang="en-US" sz="2700" spc="-1" strike="noStrike">
              <a:solidFill>
                <a:srgbClr val="0000f8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10600" y="5568840"/>
            <a:ext cx="8115480" cy="89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48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XML Signature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озволяет подписывать отдельные части документ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Основа для аутетичности и целостности (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Integrity and Authenticity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вязывание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атрибутов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безопасности и прав с документом или его частям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666800" y="1409760"/>
            <a:ext cx="1255680" cy="1938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57040" y="1434960"/>
            <a:ext cx="871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M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c1/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obDesc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0000" y="1425600"/>
            <a:ext cx="803160" cy="1220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638000" y="1401840"/>
            <a:ext cx="1344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gned selected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147760" y="1757520"/>
            <a:ext cx="719280" cy="450720"/>
          </a:xfrm>
          <a:prstGeom prst="rect">
            <a:avLst/>
          </a:prstGeom>
          <a:solidFill>
            <a:srgbClr val="99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44360" y="2916360"/>
            <a:ext cx="14004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льзователь/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истема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A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здаю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XML Doc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и подписывают его с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g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279520" y="1811160"/>
            <a:ext cx="54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114560" y="1905120"/>
            <a:ext cx="426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68200" y="2332080"/>
            <a:ext cx="803520" cy="3157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57040" y="2336760"/>
            <a:ext cx="8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MLSig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666800" y="3033720"/>
            <a:ext cx="1255680" cy="3160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714680" y="3051000"/>
            <a:ext cx="120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MLSig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537000" y="1415880"/>
            <a:ext cx="1255680" cy="193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508200" y="1407960"/>
            <a:ext cx="1344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gned selected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017960" y="1763640"/>
            <a:ext cx="719280" cy="451080"/>
          </a:xfrm>
          <a:prstGeom prst="rect">
            <a:avLst/>
          </a:prstGeom>
          <a:solidFill>
            <a:srgbClr val="99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635280" y="2162160"/>
            <a:ext cx="682560" cy="450720"/>
          </a:xfrm>
          <a:prstGeom prst="rect">
            <a:avLst/>
          </a:prstGeom>
          <a:solidFill>
            <a:srgbClr val="99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149720" y="1817640"/>
            <a:ext cx="54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670200" y="2228760"/>
            <a:ext cx="63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537000" y="3040200"/>
            <a:ext cx="1255680" cy="3157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584520" y="3057480"/>
            <a:ext cx="120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MLSig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470560" y="1420920"/>
            <a:ext cx="1255680" cy="1938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441760" y="1413000"/>
            <a:ext cx="1344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gned selected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951520" y="1768320"/>
            <a:ext cx="719280" cy="451080"/>
          </a:xfrm>
          <a:prstGeom prst="rect">
            <a:avLst/>
          </a:prstGeom>
          <a:solidFill>
            <a:srgbClr val="99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23000" y="2459160"/>
            <a:ext cx="841320" cy="450720"/>
          </a:xfrm>
          <a:prstGeom prst="rect">
            <a:avLst/>
          </a:prstGeom>
          <a:solidFill>
            <a:srgbClr val="99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8840" y="2166840"/>
            <a:ext cx="682560" cy="451080"/>
          </a:xfrm>
          <a:prstGeom prst="rect">
            <a:avLst/>
          </a:prstGeom>
          <a:solidFill>
            <a:srgbClr val="99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083280" y="1822320"/>
            <a:ext cx="54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603760" y="2233440"/>
            <a:ext cx="63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945040" y="2571840"/>
            <a:ext cx="73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470560" y="3044880"/>
            <a:ext cx="1255680" cy="3157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518080" y="3062160"/>
            <a:ext cx="120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MLSig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660680" y="3921120"/>
            <a:ext cx="56656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льзователи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B, C, D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дписывают определенные части документа своими секретными ключами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privK B, C, 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овая информация может быть добавлена и документ подписан в целом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дпись может также включать другие подпис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7883640" y="3897360"/>
            <a:ext cx="718920" cy="450720"/>
            <a:chOff x="7883640" y="3897360"/>
            <a:chExt cx="718920" cy="450720"/>
          </a:xfrm>
        </p:grpSpPr>
        <p:sp>
          <p:nvSpPr>
            <p:cNvPr id="420" name=""/>
            <p:cNvSpPr/>
            <p:nvPr/>
          </p:nvSpPr>
          <p:spPr>
            <a:xfrm>
              <a:off x="7883640" y="3897360"/>
              <a:ext cx="718920" cy="450720"/>
            </a:xfrm>
            <a:prstGeom prst="rect">
              <a:avLst/>
            </a:prstGeom>
            <a:solidFill>
              <a:srgbClr val="99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015040" y="3951000"/>
              <a:ext cx="545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igB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8318520" y="4076640"/>
            <a:ext cx="682560" cy="451080"/>
            <a:chOff x="8318520" y="4076640"/>
            <a:chExt cx="682560" cy="451080"/>
          </a:xfrm>
        </p:grpSpPr>
        <p:sp>
          <p:nvSpPr>
            <p:cNvPr id="423" name=""/>
            <p:cNvSpPr/>
            <p:nvPr/>
          </p:nvSpPr>
          <p:spPr>
            <a:xfrm>
              <a:off x="8318520" y="4076640"/>
              <a:ext cx="682560" cy="451080"/>
            </a:xfrm>
            <a:prstGeom prst="rect">
              <a:avLst/>
            </a:prstGeom>
            <a:solidFill>
              <a:srgbClr val="99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8353080" y="4143600"/>
              <a:ext cx="631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igC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8731080" y="3914640"/>
            <a:ext cx="852480" cy="450720"/>
            <a:chOff x="8731080" y="3914640"/>
            <a:chExt cx="852480" cy="450720"/>
          </a:xfrm>
        </p:grpSpPr>
        <p:sp>
          <p:nvSpPr>
            <p:cNvPr id="426" name=""/>
            <p:cNvSpPr/>
            <p:nvPr/>
          </p:nvSpPr>
          <p:spPr>
            <a:xfrm>
              <a:off x="8731080" y="3914640"/>
              <a:ext cx="841320" cy="450720"/>
            </a:xfrm>
            <a:prstGeom prst="rect">
              <a:avLst/>
            </a:prstGeom>
            <a:solidFill>
              <a:srgbClr val="99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853480" y="4027320"/>
              <a:ext cx="730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ig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7989840" y="3697200"/>
            <a:ext cx="1255680" cy="316080"/>
            <a:chOff x="7989840" y="3697200"/>
            <a:chExt cx="1255680" cy="316080"/>
          </a:xfrm>
        </p:grpSpPr>
        <p:sp>
          <p:nvSpPr>
            <p:cNvPr id="429" name=""/>
            <p:cNvSpPr/>
            <p:nvPr/>
          </p:nvSpPr>
          <p:spPr>
            <a:xfrm>
              <a:off x="7989840" y="3697200"/>
              <a:ext cx="1255680" cy="3160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037360" y="3714480"/>
              <a:ext cx="1203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XMLSig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8001000" y="1427040"/>
            <a:ext cx="1255680" cy="193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972200" y="1419120"/>
            <a:ext cx="1344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gned selected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481960" y="1774800"/>
            <a:ext cx="719280" cy="450720"/>
          </a:xfrm>
          <a:prstGeom prst="rect">
            <a:avLst/>
          </a:prstGeom>
          <a:solidFill>
            <a:srgbClr val="99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8353440" y="2465280"/>
            <a:ext cx="841320" cy="451080"/>
          </a:xfrm>
          <a:prstGeom prst="rect">
            <a:avLst/>
          </a:prstGeom>
          <a:solidFill>
            <a:srgbClr val="99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8099280" y="2173320"/>
            <a:ext cx="682920" cy="450720"/>
          </a:xfrm>
          <a:prstGeom prst="rect">
            <a:avLst/>
          </a:prstGeom>
          <a:solidFill>
            <a:srgbClr val="99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8613720" y="1828800"/>
            <a:ext cx="54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8134200" y="2239920"/>
            <a:ext cx="63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8475840" y="2577960"/>
            <a:ext cx="73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8001000" y="3051000"/>
            <a:ext cx="1255680" cy="3160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048520" y="3068640"/>
            <a:ext cx="120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MLSig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88240" y="2313000"/>
            <a:ext cx="104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41720" y="2344680"/>
            <a:ext cx="427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6320" y="2338560"/>
            <a:ext cx="426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580160" y="4708440"/>
            <a:ext cx="23259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лучатель проверяет целостность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ML Doc1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средством контроля цифровых подписей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curity standar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2EBE-938C-4DA4-A2C6-CE08B10962B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1-24, 2004 Silk Security Worksho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01800" y="190440"/>
            <a:ext cx="88200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2700" spc="-1" strike="noStrike">
                <a:solidFill>
                  <a:srgbClr val="0000f8"/>
                </a:solidFill>
                <a:latin typeface="Arial"/>
              </a:rPr>
              <a:t>Современная архитектура сервисов </a:t>
            </a:r>
            <a:r>
              <a:rPr b="0" lang="en-GB" sz="2700" spc="-1" strike="noStrike">
                <a:solidFill>
                  <a:srgbClr val="0000f8"/>
                </a:solidFill>
                <a:latin typeface="Arial"/>
              </a:rPr>
              <a:t>AuthN </a:t>
            </a:r>
            <a:r>
              <a:rPr b="0" lang="ru-RU" sz="2700" spc="-1" strike="noStrike">
                <a:solidFill>
                  <a:srgbClr val="0000f8"/>
                </a:solidFill>
                <a:latin typeface="Arial"/>
              </a:rPr>
              <a:t>и </a:t>
            </a:r>
            <a:r>
              <a:rPr b="0" lang="nl-NL" sz="2700" spc="-1" strike="noStrike">
                <a:solidFill>
                  <a:srgbClr val="0000f8"/>
                </a:solidFill>
                <a:latin typeface="Arial"/>
              </a:rPr>
              <a:t>AuthZ</a:t>
            </a:r>
            <a:endParaRPr b="0" lang="en-US" sz="2700" spc="-1" strike="noStrike">
              <a:solidFill>
                <a:srgbClr val="0000f8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63080" y="1351080"/>
            <a:ext cx="9558360" cy="515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4800" indent="0">
              <a:spcBef>
                <a:spcPts val="476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ребования к современной архитектуре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AuthN/Z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25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Разделение сервисов аутентификации </a:t>
            </a: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(AuthN)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и авторизации </a:t>
            </a: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(AuthZ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374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Аутентификация в «домашней»/«родной» организаци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374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Авторизация осуществляется ресурсо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25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Конфиденциальность, приватность и анонимность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25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Управление доступом на основе ролей </a:t>
            </a: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(RBAC – Role Based Access Control)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и использование политики доступ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spcBef>
                <a:spcPts val="476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облемы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25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Множество логинов/паролей – на каждый ресурс/сай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25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граничение одним доменом безопасности или множество сертификатов открытых ключе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25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Сложность частичной динамической делегации полномочи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spcBef>
                <a:spcPts val="476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Базовые технологи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25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LDAP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директории и метадиректории для хранения данных о пользователях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25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Собственные системы авторизаци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curity standar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95C9-56B1-499C-A31D-0404375D545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1-24, 2004 Silk Security Worksho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01800" y="190440"/>
            <a:ext cx="88200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2700" spc="-1" strike="noStrike">
                <a:solidFill>
                  <a:srgbClr val="0000f8"/>
                </a:solidFill>
                <a:latin typeface="Arial"/>
              </a:rPr>
              <a:t>Актуальность: </a:t>
            </a:r>
            <a:r>
              <a:rPr b="0" lang="en-GB" sz="2700" spc="-1" strike="noStrike">
                <a:solidFill>
                  <a:srgbClr val="0000f8"/>
                </a:solidFill>
                <a:latin typeface="Arial"/>
              </a:rPr>
              <a:t>AuthN/AuthZ </a:t>
            </a:r>
            <a:r>
              <a:rPr b="0" lang="ru-RU" sz="2700" spc="-1" strike="noStrike">
                <a:solidFill>
                  <a:srgbClr val="0000f8"/>
                </a:solidFill>
                <a:latin typeface="Arial"/>
              </a:rPr>
              <a:t>в научных и образовательных сетях</a:t>
            </a:r>
            <a:endParaRPr b="0" lang="en-US" sz="2700" spc="-1" strike="noStrike">
              <a:solidFill>
                <a:srgbClr val="0000f8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63080" y="1351080"/>
            <a:ext cx="9558360" cy="515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27200" indent="-277920">
              <a:spcBef>
                <a:spcPts val="476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оступ к многосайтовым веб/Интернет ресурсам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425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еренаправление + 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cookie (SSO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76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ежуниверситетские ресурсы и доступ к внешним ресурсам или предоставление доступа для внешних пользователей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425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Например, библиотечные каталоги или научные БД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76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аспределенные университетские кампусы и дистанционное обучен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76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Грид-центры и Грид-приложен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0">
              <a:spcBef>
                <a:spcPts val="476"/>
              </a:spcBef>
              <a:buNone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76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Общие характеристики/проблемы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425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Различные административные домены и домены безопасност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425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Единый доступ 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(SSO – Single Sign On)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и множество пароле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425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Разделение идентификации/аутентификации и управления доступом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0">
              <a:spcBef>
                <a:spcPts val="476"/>
              </a:spcBef>
              <a:buNone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curity standar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C577-1EE4-49A7-B5E7-31E3B6FF735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1-24, 2004 Silk Security Worksho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01800" y="190440"/>
            <a:ext cx="88200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2700" spc="-1" strike="noStrike">
                <a:solidFill>
                  <a:srgbClr val="0000f8"/>
                </a:solidFill>
                <a:latin typeface="Arial"/>
              </a:rPr>
              <a:t>Использование </a:t>
            </a:r>
            <a:r>
              <a:rPr b="0" lang="en-GB" sz="2700" spc="-1" strike="noStrike">
                <a:solidFill>
                  <a:srgbClr val="0000f8"/>
                </a:solidFill>
                <a:latin typeface="Arial"/>
              </a:rPr>
              <a:t>LDAP </a:t>
            </a:r>
            <a:r>
              <a:rPr b="0" lang="ru-RU" sz="2700" spc="-1" strike="noStrike">
                <a:solidFill>
                  <a:srgbClr val="0000f8"/>
                </a:solidFill>
                <a:latin typeface="Arial"/>
              </a:rPr>
              <a:t>в сервисах </a:t>
            </a:r>
            <a:r>
              <a:rPr b="0" lang="en-GB" sz="2700" spc="-1" strike="noStrike">
                <a:solidFill>
                  <a:srgbClr val="0000f8"/>
                </a:solidFill>
                <a:latin typeface="Arial"/>
              </a:rPr>
              <a:t>AuthN/AuthZ</a:t>
            </a:r>
            <a:endParaRPr b="0" lang="en-US" sz="2700" spc="-1" strike="noStrike">
              <a:solidFill>
                <a:srgbClr val="0000f8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44000" y="1243080"/>
            <a:ext cx="9558360" cy="107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4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труктуры персональных данных в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LDAP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Person (RFC2256), organisationalPerson (RFC2256), InetOrgPerson (RFC2798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EduPerson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– расширение для образовательных организаци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218280" y="2416320"/>
            <a:ext cx="3467160" cy="35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34800" indent="-3348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Дополнительные атрибуты 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EduPerson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(всего 43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eduPersonAffiliation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eduPersonNickname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eduPersonOrgDN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eduPersonOrgUnitDN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eduPersonPrimaryAffiliation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eduPersonPrincipalName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eduPersonEntitlement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eduPersonPrimaryOrgUnitDN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0" y="2948040"/>
            <a:ext cx="313992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27200" indent="-27792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sn/surName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200" indent="-27792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cn/commonName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200" indent="-27792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givenName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200" indent="-27792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uid, displayName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200" indent="-27792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userPassword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200" indent="-27792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x500uniqueIdentifier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200" indent="-27792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userCertificate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200" indent="-27792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userSMIMECertificate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200" indent="-27792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userPKCS12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849400" y="2986200"/>
            <a:ext cx="327528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27200" indent="-27792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postalAddress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200" indent="-27792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o/organizationName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200" indent="-27792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ou/organizationalUnitName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200" indent="-27792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st/stateOrProvinceName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200" indent="-27792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l/localityName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200" indent="-27792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c/country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200" indent="-27792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title,employeeType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200" indent="-27792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mail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200" indent="-27792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photo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68280" y="2475000"/>
            <a:ext cx="46800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34800" indent="-33480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Основные атрибуты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Person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objectClass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curity standar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1AD8-BBB1-4B28-B4DC-D65070EBB65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1-24, 2004 Silk Security Worksho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01800" y="190440"/>
            <a:ext cx="88200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2700" spc="-1" strike="noStrike">
                <a:solidFill>
                  <a:srgbClr val="0000f8"/>
                </a:solidFill>
                <a:latin typeface="Arial"/>
              </a:rPr>
              <a:t>Управление доступом на основе ролей</a:t>
            </a:r>
            <a:endParaRPr b="0" lang="en-US" sz="2700" spc="-1" strike="noStrike">
              <a:solidFill>
                <a:srgbClr val="0000f8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63080" y="1351080"/>
            <a:ext cx="9558360" cy="515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4800" indent="0">
              <a:spcBef>
                <a:spcPts val="524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RBAC – Role Based Access Control -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http://csrc.nist.gov/rbac/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76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оль описывает функцию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и определяет права/привилеги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76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ава определяют доступ к ресурсу в определенном режим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spcBef>
                <a:spcPts val="524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spcBef>
                <a:spcPts val="524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Преимущества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RBAC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76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Легко управлять и контролирова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76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аздельное назначение роли-пользователи и роли-привилеги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76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асштабируемость и иерарх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76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оддерживает принцип минимально необходимых привилегий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76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Наследование и агрегирование привилегий/прав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425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Новая роль может включать комбинацию уже существующих ролей с их правам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76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прощает процедуру делегирования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curity standar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0109-6451-4BB0-959F-B2DBC4DDFC8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1-24, 2004 Silk Security Worksho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01800" y="190440"/>
            <a:ext cx="88200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2700" spc="-1" strike="noStrike">
                <a:solidFill>
                  <a:srgbClr val="0000f8"/>
                </a:solidFill>
                <a:latin typeface="Arial"/>
              </a:rPr>
              <a:t>Инфраструктура управления привилегиями </a:t>
            </a:r>
            <a:endParaRPr b="0" lang="en-US" sz="2700" spc="-1" strike="noStrike">
              <a:solidFill>
                <a:srgbClr val="0000f8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63080" y="1351080"/>
            <a:ext cx="9558360" cy="515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4800" indent="0">
              <a:spcBef>
                <a:spcPts val="524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PMI – Privilege Management Infrastructure (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ISO/IEC 10181-3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76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троится на основе Сертификатов Атрибутов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(AC – Attribute Certificat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76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АС совместно с СОК определены стандартом </a:t>
            </a:r>
            <a:r>
              <a:rPr b="0" lang="nl-NL" sz="1900" spc="-1" strike="noStrike">
                <a:solidFill>
                  <a:srgbClr val="000000"/>
                </a:solidFill>
                <a:latin typeface="Arial"/>
              </a:rPr>
              <a:t>X.509 version 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425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СОК используется для аутентификации, АС используется для авторизаци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76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</a:rPr>
              <a:t>PMI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как основа для построения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RBA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425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С позволяет связать идентификатор пользователя с ролями и роли с привилегиям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425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оддерживает иерархические системы 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RBAC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, предоставляя возможность обьединения роли и дополнительных привилеги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425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граничивает глубину делегировани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76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олитика </a:t>
            </a:r>
            <a:r>
              <a:rPr b="0" lang="nl-NL" sz="1900" spc="-1" strike="noStrike">
                <a:solidFill>
                  <a:srgbClr val="000000"/>
                </a:solidFill>
                <a:latin typeface="Arial"/>
              </a:rPr>
              <a:t>PM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425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Используется для контроля доступа к ресурсам на основе роле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425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равила определения ролей для пользователей и привилегий для роле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425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Раздельные политики для субьекта, иерархия ролей, делегирование, др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curity standar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7D14-824F-440A-AD19-3A6A72401D9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1-24, 2004 Silk Security Worksho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01800" y="190440"/>
            <a:ext cx="88200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2700" spc="-1" strike="noStrike">
                <a:solidFill>
                  <a:srgbClr val="0000f8"/>
                </a:solidFill>
                <a:latin typeface="Arial"/>
              </a:rPr>
              <a:t>Основные компонены и потоки информации в </a:t>
            </a:r>
            <a:r>
              <a:rPr b="0" lang="en-GB" sz="2700" spc="-1" strike="noStrike">
                <a:solidFill>
                  <a:srgbClr val="0000f8"/>
                </a:solidFill>
                <a:latin typeface="Arial"/>
              </a:rPr>
              <a:t>PMI</a:t>
            </a:r>
            <a:endParaRPr b="0" lang="en-US" sz="2700" spc="-1" strike="noStrike">
              <a:solidFill>
                <a:srgbClr val="0000f8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7350120" y="1328760"/>
            <a:ext cx="2381400" cy="45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34800" indent="-334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EP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Policy Enforcement Point)/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EF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uthorisation enforcement function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DP (Policy Decision Point)/ADF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uthorisation decision function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IP (Policy Information Point)/AA (Attribute Authority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 – Policy Author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1" name="pmi-rbac-xacml-02" descr=""/>
          <p:cNvPicPr/>
          <p:nvPr/>
        </p:nvPicPr>
        <p:blipFill>
          <a:blip r:embed="rId1"/>
          <a:stretch/>
        </p:blipFill>
        <p:spPr>
          <a:xfrm>
            <a:off x="157320" y="1265400"/>
            <a:ext cx="7040520" cy="512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curity standar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AA66-7264-42DD-ADB4-AD4CAEBB8EE8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1-24, 2004 Silk Security Worksho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01800" y="190440"/>
            <a:ext cx="88200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2700" spc="-1" strike="noStrike">
                <a:solidFill>
                  <a:srgbClr val="0000f8"/>
                </a:solidFill>
                <a:latin typeface="Arial"/>
              </a:rPr>
              <a:t>Свободно распространяемые средства для </a:t>
            </a:r>
            <a:r>
              <a:rPr b="0" lang="nl-NL" sz="2700" spc="-1" strike="noStrike">
                <a:solidFill>
                  <a:srgbClr val="0000f8"/>
                </a:solidFill>
                <a:latin typeface="Arial"/>
              </a:rPr>
              <a:t>AuthN/AuthZ</a:t>
            </a:r>
            <a:endParaRPr b="0" lang="en-US" sz="2700" spc="-1" strike="noStrike">
              <a:solidFill>
                <a:srgbClr val="0000f8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63080" y="1351080"/>
            <a:ext cx="9558360" cy="515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4800" indent="0">
              <a:spcBef>
                <a:spcPts val="524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азработаны в рамках проектов </a:t>
            </a: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Internet2, FP5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и национальных научных сете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76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</a:rPr>
              <a:t>A-Select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nl-NL" sz="1900" spc="-1" strike="noStrike">
                <a:solidFill>
                  <a:srgbClr val="000000"/>
                </a:solidFill>
                <a:latin typeface="Arial"/>
              </a:rPr>
              <a:t>http://a-select.surfnet.nl/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76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</a:rPr>
              <a:t>Shibboleth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http://shibboleth.internet2.edu/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76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</a:rPr>
              <a:t>PAPI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nl-NL" sz="1900" spc="-1" strike="noStrike">
                <a:solidFill>
                  <a:srgbClr val="000000"/>
                </a:solidFill>
                <a:latin typeface="Arial"/>
              </a:rPr>
              <a:t>http://www.rediris.es/app/papi/index.en.htm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76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</a:rPr>
              <a:t>PERMIS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nl-NL" sz="1900" spc="-1" strike="noStrike">
                <a:solidFill>
                  <a:srgbClr val="000000"/>
                </a:solidFill>
                <a:latin typeface="Arial"/>
              </a:rPr>
              <a:t>PrivilEge and Role Management Infrastructure Standards validation) - http://www.permis.org/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76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</a:rPr>
              <a:t>SPOCP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http://www.spocp.org/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spcBef>
                <a:spcPts val="524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GRID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приложени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76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VOMS – Virtual Organisation Management System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76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GAAA Toolkit – http://www.aaaarch.org/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0">
              <a:spcBef>
                <a:spcPts val="476"/>
              </a:spcBef>
              <a:buNone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curity standar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2319-5032-40A1-8C7F-6DD059290FA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1-24, 2004 Silk Security Worksho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01800" y="190440"/>
            <a:ext cx="88200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2700" spc="-1" strike="noStrike">
                <a:solidFill>
                  <a:srgbClr val="0000f8"/>
                </a:solidFill>
                <a:latin typeface="Arial"/>
              </a:rPr>
              <a:t>Структура и направления стандартизации </a:t>
            </a:r>
            <a:r>
              <a:rPr b="0" lang="en-US" sz="2700" spc="-1" strike="noStrike">
                <a:solidFill>
                  <a:srgbClr val="0000f8"/>
                </a:solidFill>
                <a:latin typeface="Arial"/>
              </a:rPr>
              <a:t>IETF</a:t>
            </a:r>
            <a:endParaRPr b="0" lang="en-US" sz="2700" spc="-1" strike="noStrike">
              <a:solidFill>
                <a:srgbClr val="0000f8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428760" y="1257480"/>
            <a:ext cx="9267840" cy="4276440"/>
            <a:chOff x="428760" y="1257480"/>
            <a:chExt cx="9267840" cy="4276440"/>
          </a:xfrm>
        </p:grpSpPr>
        <p:grpSp>
          <p:nvGrpSpPr>
            <p:cNvPr id="101" name=""/>
            <p:cNvGrpSpPr/>
            <p:nvPr/>
          </p:nvGrpSpPr>
          <p:grpSpPr>
            <a:xfrm>
              <a:off x="3038400" y="1257480"/>
              <a:ext cx="1057320" cy="457200"/>
              <a:chOff x="3038400" y="1257480"/>
              <a:chExt cx="1057320" cy="457200"/>
            </a:xfrm>
          </p:grpSpPr>
          <p:sp>
            <p:nvSpPr>
              <p:cNvPr id="102" name=""/>
              <p:cNvSpPr/>
              <p:nvPr/>
            </p:nvSpPr>
            <p:spPr>
              <a:xfrm>
                <a:off x="3038400" y="1257480"/>
                <a:ext cx="105732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165480" y="1293840"/>
                <a:ext cx="819000" cy="36828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SOC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3038400" y="2028960"/>
              <a:ext cx="1057320" cy="457200"/>
              <a:chOff x="3038400" y="2028960"/>
              <a:chExt cx="1057320" cy="457200"/>
            </a:xfrm>
          </p:grpSpPr>
          <p:sp>
            <p:nvSpPr>
              <p:cNvPr id="105" name=""/>
              <p:cNvSpPr/>
              <p:nvPr/>
            </p:nvSpPr>
            <p:spPr>
              <a:xfrm>
                <a:off x="3038400" y="2028960"/>
                <a:ext cx="105732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165480" y="2065320"/>
                <a:ext cx="819000" cy="36828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ET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6657840" y="2086200"/>
              <a:ext cx="1057320" cy="457200"/>
              <a:chOff x="6657840" y="2086200"/>
              <a:chExt cx="1057320" cy="457200"/>
            </a:xfrm>
          </p:grpSpPr>
          <p:sp>
            <p:nvSpPr>
              <p:cNvPr id="108" name=""/>
              <p:cNvSpPr/>
              <p:nvPr/>
            </p:nvSpPr>
            <p:spPr>
              <a:xfrm>
                <a:off x="6657840" y="2086200"/>
                <a:ext cx="105732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784920" y="2122560"/>
                <a:ext cx="819000" cy="36828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RT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1828800" y="2619360"/>
              <a:ext cx="1057320" cy="457200"/>
              <a:chOff x="1828800" y="2619360"/>
              <a:chExt cx="1057320" cy="457200"/>
            </a:xfrm>
          </p:grpSpPr>
          <p:sp>
            <p:nvSpPr>
              <p:cNvPr id="111" name=""/>
              <p:cNvSpPr/>
              <p:nvPr/>
            </p:nvSpPr>
            <p:spPr>
              <a:xfrm>
                <a:off x="1828800" y="2619360"/>
                <a:ext cx="105732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955880" y="2655720"/>
                <a:ext cx="819000" cy="36828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AB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4200480" y="2600280"/>
              <a:ext cx="1057320" cy="457200"/>
              <a:chOff x="4200480" y="2600280"/>
              <a:chExt cx="1057320" cy="457200"/>
            </a:xfrm>
          </p:grpSpPr>
          <p:sp>
            <p:nvSpPr>
              <p:cNvPr id="114" name=""/>
              <p:cNvSpPr/>
              <p:nvPr/>
            </p:nvSpPr>
            <p:spPr>
              <a:xfrm>
                <a:off x="4200480" y="2600280"/>
                <a:ext cx="105732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327560" y="2636640"/>
                <a:ext cx="819000" cy="36828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ESG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cxnSp>
          <p:nvCxnSpPr>
            <p:cNvPr id="116" name=""/>
            <p:cNvCxnSpPr>
              <a:stCxn id="102" idx="2"/>
              <a:endCxn id="105" idx="0"/>
            </p:cNvCxnSpPr>
            <p:nvPr/>
          </p:nvCxnSpPr>
          <p:spPr>
            <a:xfrm>
              <a:off x="3566880" y="1714320"/>
              <a:ext cx="1080" cy="3150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17" name=""/>
            <p:cNvCxnSpPr>
              <a:stCxn id="102" idx="3"/>
              <a:endCxn id="108" idx="0"/>
            </p:cNvCxnSpPr>
            <p:nvPr/>
          </p:nvCxnSpPr>
          <p:spPr>
            <a:xfrm>
              <a:off x="4095720" y="1485720"/>
              <a:ext cx="3091680" cy="600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grpSp>
          <p:nvGrpSpPr>
            <p:cNvPr id="118" name=""/>
            <p:cNvGrpSpPr/>
            <p:nvPr/>
          </p:nvGrpSpPr>
          <p:grpSpPr>
            <a:xfrm>
              <a:off x="6848640" y="3638520"/>
              <a:ext cx="1056960" cy="457200"/>
              <a:chOff x="6848640" y="3638520"/>
              <a:chExt cx="10569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848640" y="3638520"/>
                <a:ext cx="105696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975360" y="3674880"/>
                <a:ext cx="818640" cy="36828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466560" y="3629160"/>
              <a:ext cx="1352520" cy="457200"/>
              <a:chOff x="466560" y="3629160"/>
              <a:chExt cx="1352520" cy="457200"/>
            </a:xfrm>
          </p:grpSpPr>
          <p:sp>
            <p:nvSpPr>
              <p:cNvPr id="122" name=""/>
              <p:cNvSpPr/>
              <p:nvPr/>
            </p:nvSpPr>
            <p:spPr>
              <a:xfrm>
                <a:off x="466560" y="3629160"/>
                <a:ext cx="135252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28920" y="3665520"/>
                <a:ext cx="1047600" cy="3373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ecurity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5105520" y="3638520"/>
              <a:ext cx="1561680" cy="457200"/>
              <a:chOff x="5105520" y="3638520"/>
              <a:chExt cx="1561680" cy="457200"/>
            </a:xfrm>
          </p:grpSpPr>
          <p:sp>
            <p:nvSpPr>
              <p:cNvPr id="125" name=""/>
              <p:cNvSpPr/>
              <p:nvPr/>
            </p:nvSpPr>
            <p:spPr>
              <a:xfrm>
                <a:off x="5105520" y="3638520"/>
                <a:ext cx="156168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293080" y="3674880"/>
                <a:ext cx="1209600" cy="3373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pplication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3533760" y="3629160"/>
              <a:ext cx="1352160" cy="457200"/>
              <a:chOff x="3533760" y="3629160"/>
              <a:chExt cx="1352160" cy="457200"/>
            </a:xfrm>
          </p:grpSpPr>
          <p:sp>
            <p:nvSpPr>
              <p:cNvPr id="128" name=""/>
              <p:cNvSpPr/>
              <p:nvPr/>
            </p:nvSpPr>
            <p:spPr>
              <a:xfrm>
                <a:off x="3533760" y="3629160"/>
                <a:ext cx="135216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696120" y="3665520"/>
                <a:ext cx="1047240" cy="3373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nterne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1981080" y="3629160"/>
              <a:ext cx="1419120" cy="457200"/>
              <a:chOff x="1981080" y="3629160"/>
              <a:chExt cx="1419120" cy="457200"/>
            </a:xfrm>
          </p:grpSpPr>
          <p:sp>
            <p:nvSpPr>
              <p:cNvPr id="131" name=""/>
              <p:cNvSpPr/>
              <p:nvPr/>
            </p:nvSpPr>
            <p:spPr>
              <a:xfrm>
                <a:off x="1981080" y="3629160"/>
                <a:ext cx="141912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151360" y="3665520"/>
                <a:ext cx="1099080" cy="3373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Transpor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cxnSp>
          <p:nvCxnSpPr>
            <p:cNvPr id="133" name=""/>
            <p:cNvCxnSpPr>
              <a:stCxn id="105" idx="1"/>
              <a:endCxn id="111" idx="0"/>
            </p:cNvCxnSpPr>
            <p:nvPr/>
          </p:nvCxnSpPr>
          <p:spPr>
            <a:xfrm flipH="1">
              <a:off x="2356920" y="2257200"/>
              <a:ext cx="681840" cy="3625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34" name=""/>
            <p:cNvCxnSpPr>
              <a:stCxn id="105" idx="3"/>
              <a:endCxn id="114" idx="0"/>
            </p:cNvCxnSpPr>
            <p:nvPr/>
          </p:nvCxnSpPr>
          <p:spPr>
            <a:xfrm>
              <a:off x="4095720" y="2257560"/>
              <a:ext cx="634320" cy="3434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35" name=""/>
            <p:cNvCxnSpPr>
              <a:stCxn id="114" idx="2"/>
              <a:endCxn id="122" idx="0"/>
            </p:cNvCxnSpPr>
            <p:nvPr/>
          </p:nvCxnSpPr>
          <p:spPr>
            <a:xfrm flipH="1">
              <a:off x="1142640" y="3057480"/>
              <a:ext cx="3587040" cy="572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36" name=""/>
            <p:cNvCxnSpPr>
              <a:stCxn id="114" idx="2"/>
              <a:endCxn id="131" idx="0"/>
            </p:cNvCxnSpPr>
            <p:nvPr/>
          </p:nvCxnSpPr>
          <p:spPr>
            <a:xfrm flipH="1">
              <a:off x="2689920" y="3057480"/>
              <a:ext cx="2039400" cy="572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37" name=""/>
            <p:cNvCxnSpPr>
              <a:stCxn id="114" idx="2"/>
              <a:endCxn id="128" idx="0"/>
            </p:cNvCxnSpPr>
            <p:nvPr/>
          </p:nvCxnSpPr>
          <p:spPr>
            <a:xfrm flipH="1">
              <a:off x="4209840" y="3057480"/>
              <a:ext cx="519840" cy="572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38" name=""/>
            <p:cNvCxnSpPr>
              <a:stCxn id="114" idx="2"/>
              <a:endCxn id="125" idx="0"/>
            </p:cNvCxnSpPr>
            <p:nvPr/>
          </p:nvCxnSpPr>
          <p:spPr>
            <a:xfrm>
              <a:off x="4729320" y="3057480"/>
              <a:ext cx="1157400" cy="581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39" name=""/>
            <p:cNvCxnSpPr>
              <a:stCxn id="114" idx="2"/>
              <a:endCxn id="119" idx="0"/>
            </p:cNvCxnSpPr>
            <p:nvPr/>
          </p:nvCxnSpPr>
          <p:spPr>
            <a:xfrm>
              <a:off x="4728960" y="3057480"/>
              <a:ext cx="2648520" cy="581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grpSp>
          <p:nvGrpSpPr>
            <p:cNvPr id="140" name=""/>
            <p:cNvGrpSpPr/>
            <p:nvPr/>
          </p:nvGrpSpPr>
          <p:grpSpPr>
            <a:xfrm>
              <a:off x="7400880" y="5067360"/>
              <a:ext cx="1057320" cy="457200"/>
              <a:chOff x="7400880" y="5067360"/>
              <a:chExt cx="1057320" cy="457200"/>
            </a:xfrm>
          </p:grpSpPr>
          <p:sp>
            <p:nvSpPr>
              <p:cNvPr id="141" name=""/>
              <p:cNvSpPr/>
              <p:nvPr/>
            </p:nvSpPr>
            <p:spPr>
              <a:xfrm>
                <a:off x="7400880" y="5067360"/>
                <a:ext cx="105732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527960" y="5103720"/>
                <a:ext cx="819000" cy="36828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AA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4181400" y="5067360"/>
              <a:ext cx="1323720" cy="457200"/>
              <a:chOff x="4181400" y="5067360"/>
              <a:chExt cx="1323720" cy="457200"/>
            </a:xfrm>
          </p:grpSpPr>
          <p:sp>
            <p:nvSpPr>
              <p:cNvPr id="144" name=""/>
              <p:cNvSpPr/>
              <p:nvPr/>
            </p:nvSpPr>
            <p:spPr>
              <a:xfrm>
                <a:off x="4181400" y="5067360"/>
                <a:ext cx="132372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340520" y="5103720"/>
                <a:ext cx="1025280" cy="36828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/MIM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2943360" y="5067360"/>
              <a:ext cx="1057320" cy="457200"/>
              <a:chOff x="2943360" y="5067360"/>
              <a:chExt cx="1057320" cy="457200"/>
            </a:xfrm>
          </p:grpSpPr>
          <p:sp>
            <p:nvSpPr>
              <p:cNvPr id="147" name=""/>
              <p:cNvSpPr/>
              <p:nvPr/>
            </p:nvSpPr>
            <p:spPr>
              <a:xfrm>
                <a:off x="2943360" y="5067360"/>
                <a:ext cx="105732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070440" y="5103720"/>
                <a:ext cx="819000" cy="36828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TLS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1685880" y="5048280"/>
              <a:ext cx="1057320" cy="457200"/>
              <a:chOff x="1685880" y="5048280"/>
              <a:chExt cx="1057320" cy="457200"/>
            </a:xfrm>
          </p:grpSpPr>
          <p:sp>
            <p:nvSpPr>
              <p:cNvPr id="150" name=""/>
              <p:cNvSpPr/>
              <p:nvPr/>
            </p:nvSpPr>
            <p:spPr>
              <a:xfrm>
                <a:off x="1685880" y="5048280"/>
                <a:ext cx="105732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812960" y="5084640"/>
                <a:ext cx="819000" cy="36828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PSec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28760" y="5058000"/>
              <a:ext cx="1057320" cy="457200"/>
              <a:chOff x="428760" y="5058000"/>
              <a:chExt cx="1057320" cy="457200"/>
            </a:xfrm>
          </p:grpSpPr>
          <p:sp>
            <p:nvSpPr>
              <p:cNvPr id="153" name=""/>
              <p:cNvSpPr/>
              <p:nvPr/>
            </p:nvSpPr>
            <p:spPr>
              <a:xfrm>
                <a:off x="428760" y="5058000"/>
                <a:ext cx="105732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55840" y="5094360"/>
                <a:ext cx="819000" cy="36828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KI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5705640" y="5067360"/>
              <a:ext cx="1504440" cy="457200"/>
              <a:chOff x="5705640" y="5067360"/>
              <a:chExt cx="1504440" cy="457200"/>
            </a:xfrm>
          </p:grpSpPr>
          <p:sp>
            <p:nvSpPr>
              <p:cNvPr id="156" name=""/>
              <p:cNvSpPr/>
              <p:nvPr/>
            </p:nvSpPr>
            <p:spPr>
              <a:xfrm>
                <a:off x="5705640" y="5067360"/>
                <a:ext cx="150444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886360" y="5103720"/>
                <a:ext cx="1165320" cy="36828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NSSEC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cxnSp>
          <p:nvCxnSpPr>
            <p:cNvPr id="158" name=""/>
            <p:cNvCxnSpPr>
              <a:stCxn id="122" idx="2"/>
              <a:endCxn id="153" idx="0"/>
            </p:cNvCxnSpPr>
            <p:nvPr/>
          </p:nvCxnSpPr>
          <p:spPr>
            <a:xfrm flipH="1">
              <a:off x="956880" y="4086000"/>
              <a:ext cx="186480" cy="9723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59" name=""/>
            <p:cNvCxnSpPr>
              <a:stCxn id="122" idx="2"/>
              <a:endCxn id="150" idx="0"/>
            </p:cNvCxnSpPr>
            <p:nvPr/>
          </p:nvCxnSpPr>
          <p:spPr>
            <a:xfrm>
              <a:off x="1142640" y="4086360"/>
              <a:ext cx="1072440" cy="962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60" name=""/>
            <p:cNvCxnSpPr>
              <a:stCxn id="122" idx="2"/>
              <a:endCxn id="147" idx="0"/>
            </p:cNvCxnSpPr>
            <p:nvPr/>
          </p:nvCxnSpPr>
          <p:spPr>
            <a:xfrm>
              <a:off x="1142640" y="4086000"/>
              <a:ext cx="2329560" cy="9817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61" name=""/>
            <p:cNvCxnSpPr>
              <a:stCxn id="122" idx="2"/>
              <a:endCxn id="144" idx="0"/>
            </p:cNvCxnSpPr>
            <p:nvPr/>
          </p:nvCxnSpPr>
          <p:spPr>
            <a:xfrm>
              <a:off x="1142640" y="4086000"/>
              <a:ext cx="3701160" cy="9817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62" name=""/>
            <p:cNvCxnSpPr>
              <a:stCxn id="122" idx="2"/>
              <a:endCxn id="156" idx="0"/>
            </p:cNvCxnSpPr>
            <p:nvPr/>
          </p:nvCxnSpPr>
          <p:spPr>
            <a:xfrm>
              <a:off x="1143000" y="4086000"/>
              <a:ext cx="5315760" cy="9817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63" name=""/>
            <p:cNvCxnSpPr>
              <a:stCxn id="122" idx="2"/>
              <a:endCxn id="141" idx="0"/>
            </p:cNvCxnSpPr>
            <p:nvPr/>
          </p:nvCxnSpPr>
          <p:spPr>
            <a:xfrm>
              <a:off x="1143000" y="4086000"/>
              <a:ext cx="6787440" cy="9817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grpSp>
          <p:nvGrpSpPr>
            <p:cNvPr id="164" name=""/>
            <p:cNvGrpSpPr/>
            <p:nvPr/>
          </p:nvGrpSpPr>
          <p:grpSpPr>
            <a:xfrm>
              <a:off x="8639280" y="5076720"/>
              <a:ext cx="1057320" cy="457200"/>
              <a:chOff x="8639280" y="5076720"/>
              <a:chExt cx="1057320" cy="457200"/>
            </a:xfrm>
          </p:grpSpPr>
          <p:sp>
            <p:nvSpPr>
              <p:cNvPr id="165" name=""/>
              <p:cNvSpPr/>
              <p:nvPr/>
            </p:nvSpPr>
            <p:spPr>
              <a:xfrm>
                <a:off x="8639280" y="5076720"/>
                <a:ext cx="105732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8766360" y="5113080"/>
                <a:ext cx="819000" cy="36828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cxnSp>
          <p:nvCxnSpPr>
            <p:cNvPr id="167" name=""/>
            <p:cNvCxnSpPr>
              <a:stCxn id="122" idx="2"/>
              <a:endCxn id="165" idx="0"/>
            </p:cNvCxnSpPr>
            <p:nvPr/>
          </p:nvCxnSpPr>
          <p:spPr>
            <a:xfrm>
              <a:off x="1142640" y="4086000"/>
              <a:ext cx="8025480" cy="99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</p:grp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63080" y="5675400"/>
            <a:ext cx="9558360" cy="83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4800" indent="0">
              <a:spcBef>
                <a:spcPts val="374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Рабочие группы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ETF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о вопросам безопасности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2004)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- http://www.ietf.org/html.charters/wg-dir.htm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spcBef>
                <a:spcPts val="374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enroll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  <a:ea typeface="Arial Unicode MS"/>
              </a:rPr>
              <a:t>,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idwg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  <a:ea typeface="Arial Unicode MS"/>
              </a:rPr>
              <a:t>,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inch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  <a:ea typeface="Arial Unicode MS"/>
              </a:rPr>
              <a:t>,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ipsec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  <a:ea typeface="Arial Unicode MS"/>
              </a:rPr>
              <a:t>,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ipseckey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  <a:ea typeface="Arial Unicode MS"/>
              </a:rPr>
              <a:t>,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ipsp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  <a:ea typeface="Arial Unicode MS"/>
              </a:rPr>
              <a:t>,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kink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  <a:ea typeface="Arial Unicode MS"/>
              </a:rPr>
              <a:t>,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krbwg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  <a:ea typeface="Arial Unicode MS"/>
              </a:rPr>
              <a:t>,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ltans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  <a:ea typeface="Arial Unicode MS"/>
              </a:rPr>
              <a:t>,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mobike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  <a:ea typeface="Arial Unicode MS"/>
              </a:rPr>
              <a:t>,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msec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  <a:ea typeface="Arial Unicode MS"/>
              </a:rPr>
              <a:t>,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openpgp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  <a:ea typeface="Arial Unicode MS"/>
              </a:rPr>
              <a:t>,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pki4ipsec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  <a:ea typeface="Arial Unicode MS"/>
              </a:rPr>
              <a:t>,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pkix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  <a:ea typeface="Arial Unicode MS"/>
              </a:rPr>
              <a:t>,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sacred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  <a:ea typeface="Arial Unicode MS"/>
              </a:rPr>
              <a:t>,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sasl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  <a:ea typeface="Arial Unicode MS"/>
              </a:rPr>
              <a:t>,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secsh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  <a:ea typeface="Arial Unicode MS"/>
              </a:rPr>
              <a:t>,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smime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  <a:ea typeface="Arial Unicode MS"/>
              </a:rPr>
              <a:t>,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stime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  <a:ea typeface="Arial Unicode MS"/>
              </a:rPr>
              <a:t>,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syslog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  <a:ea typeface="Arial Unicode MS"/>
              </a:rPr>
              <a:t>,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tls, aaa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curity standar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F16C-4032-4D31-8C60-0503131DED9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1-24, 2004 Silk Security Worksho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01800" y="190440"/>
            <a:ext cx="88200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2700" spc="-1" strike="noStrike">
                <a:solidFill>
                  <a:srgbClr val="0000f8"/>
                </a:solidFill>
                <a:latin typeface="Arial"/>
              </a:rPr>
              <a:t>A-Select</a:t>
            </a:r>
            <a:r>
              <a:rPr b="0" lang="ru-RU" sz="2700" spc="-1" strike="noStrike">
                <a:solidFill>
                  <a:srgbClr val="0000f8"/>
                </a:solidFill>
                <a:latin typeface="Arial"/>
              </a:rPr>
              <a:t> - </a:t>
            </a:r>
            <a:r>
              <a:rPr b="0" lang="en-GB" sz="2700" spc="-1" strike="noStrike">
                <a:solidFill>
                  <a:srgbClr val="0000f8"/>
                </a:solidFill>
                <a:latin typeface="Arial"/>
              </a:rPr>
              <a:t>http://a-select.surfnet.nl/</a:t>
            </a:r>
            <a:endParaRPr b="0" lang="en-US" sz="2700" spc="-1" strike="noStrike">
              <a:solidFill>
                <a:srgbClr val="0000f8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63080" y="1351080"/>
            <a:ext cx="9558360" cy="515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4800" indent="0">
              <a:spcBef>
                <a:spcPts val="476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A-Select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едставляет собой распределенную систему веб-доступа (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weblogin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 использованием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cooki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25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оддерживаемые методы аутентификаци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326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nl-NL" sz="1300" spc="-1" strike="noStrike">
                <a:solidFill>
                  <a:srgbClr val="000000"/>
                </a:solidFill>
                <a:latin typeface="Arial"/>
              </a:rPr>
              <a:t>IP addres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326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nl-NL" sz="13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ser</a:t>
            </a:r>
            <a:r>
              <a:rPr b="0" lang="nl-NL" sz="1300" spc="-1" strike="noStrike">
                <a:solidFill>
                  <a:srgbClr val="000000"/>
                </a:solidFill>
                <a:latin typeface="Arial"/>
              </a:rPr>
              <a:t>/password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через</a:t>
            </a:r>
            <a:r>
              <a:rPr b="0" lang="nl-NL" sz="1300" spc="-1" strike="noStrike">
                <a:solidFill>
                  <a:srgbClr val="000000"/>
                </a:solidFill>
                <a:latin typeface="Arial"/>
              </a:rPr>
              <a:t> RADIU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326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Банковская карточка (с режимом </a:t>
            </a:r>
            <a:r>
              <a:rPr b="0" lang="nl-NL" sz="1300" spc="-1" strike="noStrike">
                <a:solidFill>
                  <a:srgbClr val="000000"/>
                </a:solidFill>
                <a:latin typeface="Arial"/>
              </a:rPr>
              <a:t>Internet banking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SMS/TAN, Challenge generator</a:t>
            </a:r>
            <a:r>
              <a:rPr b="0" lang="nl-NL" sz="1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326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nl-NL" sz="1300" spc="-1" strike="noStrike">
                <a:solidFill>
                  <a:srgbClr val="000000"/>
                </a:solidFill>
                <a:latin typeface="Arial"/>
              </a:rPr>
              <a:t>SMS (mobile phone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326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nl-NL" sz="1300" spc="-1" strike="noStrike">
                <a:solidFill>
                  <a:srgbClr val="000000"/>
                </a:solidFill>
                <a:latin typeface="Arial"/>
              </a:rPr>
              <a:t>LDA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326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nl-NL" sz="1300" spc="-1" strike="noStrike">
                <a:solidFill>
                  <a:srgbClr val="000000"/>
                </a:solidFill>
                <a:latin typeface="Arial"/>
              </a:rPr>
              <a:t>PKI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(в перспективе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spcBef>
                <a:spcPts val="425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A-Select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использует квитанции, которые содержат пользовательские мандаты/удостоверенияю. Два типа квитанций: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326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Квитанция, гарантирующая квитанцию (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"ticket granting ticket"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выдаваемая после успешной аутентифиации 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ASP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and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326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Квитанция придложения (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"application ticket"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), которая выдается приложением, использующим 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A-Select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374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Единый доступ (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ingle-Sign-on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) обеспечивается за счет назначения более длительного периода жизни для квитанция, гарантирующая квитанцию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374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Квитанции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-Select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реализованы как не-постоянные (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non-persistent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cookie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, которые сохраняются в браузере пользователя и видимы только для целевого сервиса или сервер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spcBef>
                <a:spcPts val="425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Разработка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URFnet -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.surfnet.nl/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curity standar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52E3-264B-4780-8C3B-5489F462E75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1-24, 2004 Silk Security Worksho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01800" y="190440"/>
            <a:ext cx="88200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3100" spc="-1" strike="noStrike">
                <a:solidFill>
                  <a:srgbClr val="0000f8"/>
                </a:solidFill>
                <a:latin typeface="Arial"/>
              </a:rPr>
              <a:t>Компоненты </a:t>
            </a:r>
            <a:r>
              <a:rPr b="0" lang="en-GB" sz="3100" spc="-1" strike="noStrike">
                <a:solidFill>
                  <a:srgbClr val="0000f8"/>
                </a:solidFill>
                <a:latin typeface="Arial"/>
              </a:rPr>
              <a:t>A-Select</a:t>
            </a:r>
            <a:endParaRPr b="0" lang="en-US" sz="3100" spc="-1" strike="noStrike">
              <a:solidFill>
                <a:srgbClr val="0000f8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941640" y="1230480"/>
            <a:ext cx="2914920" cy="205740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541520" y="1401840"/>
            <a:ext cx="1289160" cy="1074600"/>
          </a:xfrm>
          <a:prstGeom prst="ellipse">
            <a:avLst/>
          </a:prstGeom>
          <a:solidFill>
            <a:srgbClr val="0000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284720" y="1401840"/>
            <a:ext cx="1173240" cy="857160"/>
          </a:xfrm>
          <a:prstGeom prst="ellipse">
            <a:avLst/>
          </a:prstGeom>
          <a:solidFill>
            <a:srgbClr val="00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656320" y="2259000"/>
            <a:ext cx="1028520" cy="685800"/>
          </a:xfrm>
          <a:prstGeom prst="ellipse">
            <a:avLst/>
          </a:prstGeom>
          <a:solidFill>
            <a:srgbClr val="00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 flipV="1">
            <a:off x="2614320" y="2340000"/>
            <a:ext cx="1841400" cy="2147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808360" y="1916280"/>
            <a:ext cx="1131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5155920" y="2944800"/>
            <a:ext cx="842760" cy="155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 flipV="1">
            <a:off x="5464080" y="2015640"/>
            <a:ext cx="363600" cy="2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202280" y="4410000"/>
            <a:ext cx="1199880" cy="1028880"/>
          </a:xfrm>
          <a:prstGeom prst="ellipse">
            <a:avLst/>
          </a:prstGeom>
          <a:solidFill>
            <a:srgbClr val="00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167360" y="4506840"/>
            <a:ext cx="13730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oc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-Select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388120" y="2373480"/>
            <a:ext cx="1525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-Select Ag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237200" y="1611360"/>
            <a:ext cx="133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pplic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712880" y="1573200"/>
            <a:ext cx="779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30040" y="5197320"/>
            <a:ext cx="1603440" cy="10288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54080" y="5227560"/>
            <a:ext cx="176832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emote Authentication Service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vid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1817640" y="4403880"/>
            <a:ext cx="2141640" cy="1062000"/>
            <a:chOff x="1817640" y="4403880"/>
            <a:chExt cx="2141640" cy="1062000"/>
          </a:xfrm>
        </p:grpSpPr>
        <p:sp>
          <p:nvSpPr>
            <p:cNvPr id="483" name=""/>
            <p:cNvSpPr/>
            <p:nvPr/>
          </p:nvSpPr>
          <p:spPr>
            <a:xfrm>
              <a:off x="2058840" y="4403880"/>
              <a:ext cx="1603440" cy="1028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817640" y="4422960"/>
              <a:ext cx="2141640" cy="10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Local Authentication Service 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Provider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5" name=""/>
          <p:cNvSpPr/>
          <p:nvPr/>
        </p:nvSpPr>
        <p:spPr>
          <a:xfrm>
            <a:off x="5450040" y="4924440"/>
            <a:ext cx="996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1001880" y="2418840"/>
            <a:ext cx="911160" cy="2778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H="1" flipV="1">
            <a:off x="2322360" y="2468160"/>
            <a:ext cx="525600" cy="192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H="1" flipV="1">
            <a:off x="5270040" y="5175360"/>
            <a:ext cx="17964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261040" y="5518080"/>
            <a:ext cx="712800" cy="514440"/>
          </a:xfrm>
          <a:prstGeom prst="can">
            <a:avLst>
              <a:gd name="adj" fmla="val 25000"/>
            </a:avLst>
          </a:prstGeom>
          <a:solidFill>
            <a:srgbClr val="00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586480" y="6058080"/>
            <a:ext cx="7128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UD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863880" y="229716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Verdana"/>
              </a:rPr>
              <a:t>Filt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092480" y="1535040"/>
            <a:ext cx="76320" cy="685800"/>
          </a:xfrm>
          <a:prstGeom prst="rect">
            <a:avLst/>
          </a:prstGeom>
          <a:solidFill>
            <a:srgbClr val="01948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478560" y="4398840"/>
            <a:ext cx="1200240" cy="1028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354720" y="4570560"/>
            <a:ext cx="15321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emo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-Select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508880" y="15098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378200" y="1579680"/>
            <a:ext cx="2350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l. Platform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ache Tomcat 4.5/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curity standar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4DC5-A8B6-4C51-A754-C4FC9333888D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1-24, 2004 Silk Security Worksho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01800" y="190440"/>
            <a:ext cx="88200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3100" spc="-1" strike="noStrike">
              <a:solidFill>
                <a:srgbClr val="0000f8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63080" y="1351080"/>
            <a:ext cx="9558360" cy="515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4800" indent="0">
              <a:spcBef>
                <a:spcPts val="825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spcBef>
                <a:spcPts val="825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4800" indent="0" algn="ctr">
              <a:spcBef>
                <a:spcPts val="825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Вопросы и комментарии?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curity standar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02B0-2C26-44A3-8338-A037973BE43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1-24, 2004 Silk Security Worksho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01800" y="190440"/>
            <a:ext cx="88200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2700" spc="-1" strike="noStrike">
                <a:solidFill>
                  <a:srgbClr val="0000f8"/>
                </a:solidFill>
                <a:latin typeface="Arial"/>
              </a:rPr>
              <a:t>Модель Взаимодействия Открытых Систем (ВОС)</a:t>
            </a:r>
            <a:br>
              <a:rPr sz="2700"/>
            </a:br>
            <a:r>
              <a:rPr b="0" lang="en-GB" sz="2200" spc="-1" strike="noStrike">
                <a:solidFill>
                  <a:srgbClr val="0000f8"/>
                </a:solidFill>
                <a:latin typeface="Arial"/>
              </a:rPr>
              <a:t>Open System Interconnection (OSI) Reference Model</a:t>
            </a:r>
            <a:endParaRPr b="0" lang="en-US" sz="2200" spc="-1" strike="noStrike">
              <a:solidFill>
                <a:srgbClr val="0000f8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6960" y="5657760"/>
            <a:ext cx="151632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9320" rIns="493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Физический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47840" y="5038560"/>
            <a:ext cx="116676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9320" rIns="493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Данных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ata 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41360" y="4475160"/>
            <a:ext cx="10476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9320" rIns="493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Сетевой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7600" y="3892680"/>
            <a:ext cx="177156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9320" rIns="493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Транспортный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17600" y="3308400"/>
            <a:ext cx="153648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9320" rIns="493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Сеансовый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38120" y="2732040"/>
            <a:ext cx="213984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9320" rIns="493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Представительный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90680" y="2014560"/>
            <a:ext cx="15048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9320" rIns="493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Прикладной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51080" y="1449360"/>
            <a:ext cx="3408480" cy="3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9320" rIns="493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Реализуемые функции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7760" y="1940040"/>
            <a:ext cx="2262240" cy="4314600"/>
            <a:chOff x="347760" y="1940040"/>
            <a:chExt cx="2262240" cy="4314600"/>
          </a:xfrm>
        </p:grpSpPr>
        <p:sp>
          <p:nvSpPr>
            <p:cNvPr id="179" name=""/>
            <p:cNvSpPr/>
            <p:nvPr/>
          </p:nvSpPr>
          <p:spPr>
            <a:xfrm>
              <a:off x="347760" y="5614920"/>
              <a:ext cx="2262240" cy="63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47760" y="5043600"/>
              <a:ext cx="2262240" cy="558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47760" y="4471920"/>
              <a:ext cx="2262240" cy="559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47760" y="3900600"/>
              <a:ext cx="2262240" cy="558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47760" y="3328920"/>
              <a:ext cx="2262240" cy="559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47760" y="2757600"/>
              <a:ext cx="2262240" cy="558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7760" y="1940040"/>
              <a:ext cx="2262240" cy="804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3102120" y="1968480"/>
            <a:ext cx="6354720" cy="4314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95640" y="5637240"/>
            <a:ext cx="636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95640" y="5065560"/>
            <a:ext cx="636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95640" y="4494240"/>
            <a:ext cx="636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95640" y="3922560"/>
            <a:ext cx="636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095640" y="3351240"/>
            <a:ext cx="636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95640" y="2779560"/>
            <a:ext cx="636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063680" y="5783400"/>
            <a:ext cx="3964320" cy="2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320" rIns="493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Передача двоичных данных через среду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189600" y="5226120"/>
            <a:ext cx="5855400" cy="2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320" rIns="493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Передача данных, формирование пакетов, контроль ошибок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93640" y="4640400"/>
            <a:ext cx="5524920" cy="2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320" rIns="493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Даставка пакетов информации, включая маршрутизацию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544920" y="4091040"/>
            <a:ext cx="4849560" cy="2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320" rIns="493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Обеспечение доставки между конечными точкам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599280" y="3497400"/>
            <a:ext cx="4224960" cy="2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320" rIns="493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Установление и поддержание сеанса связ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20600" y="2887560"/>
            <a:ext cx="3920040" cy="2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320" rIns="493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Форматирование данных и кодирование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781080" y="2109960"/>
            <a:ext cx="491364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320" rIns="493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Сетевые приложения такие, как передача файлов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и эмуляция терминалов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30480" y="1414440"/>
            <a:ext cx="151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овни ВО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00400" y="1258920"/>
            <a:ext cx="282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O 7894-1984/ITU X.2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curity standar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D857-CA0C-48DC-AB53-40A8170C4E1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1-24, 2004 Silk Security Worksho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01800" y="190440"/>
            <a:ext cx="88200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2700" spc="-1" strike="noStrike">
                <a:solidFill>
                  <a:srgbClr val="0000f8"/>
                </a:solidFill>
                <a:latin typeface="Arial"/>
              </a:rPr>
              <a:t>Группа протоколов </a:t>
            </a:r>
            <a:r>
              <a:rPr b="0" lang="en-GB" sz="2700" spc="-1" strike="noStrike">
                <a:solidFill>
                  <a:srgbClr val="0000f8"/>
                </a:solidFill>
                <a:latin typeface="Arial"/>
              </a:rPr>
              <a:t>TCP/IP </a:t>
            </a:r>
            <a:r>
              <a:rPr b="0" lang="ru-RU" sz="2700" spc="-1" strike="noStrike">
                <a:solidFill>
                  <a:srgbClr val="0000f8"/>
                </a:solidFill>
                <a:latin typeface="Arial"/>
              </a:rPr>
              <a:t>(1)</a:t>
            </a:r>
            <a:endParaRPr b="0" lang="en-US" sz="2700" spc="-1" strike="noStrike">
              <a:solidFill>
                <a:srgbClr val="0000f8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457200" y="1600200"/>
          <a:ext cx="8381880" cy="437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381880" cy="437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curity standar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3078-24F7-40EE-AFC3-7CFA50C002F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1-24, 2004 Silk Security Worksho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01800" y="190440"/>
            <a:ext cx="88200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2700" spc="-1" strike="noStrike">
                <a:solidFill>
                  <a:srgbClr val="0000f8"/>
                </a:solidFill>
                <a:latin typeface="Arial"/>
              </a:rPr>
              <a:t>Группа протоколов </a:t>
            </a:r>
            <a:r>
              <a:rPr b="0" lang="en-US" sz="2700" spc="-1" strike="noStrike">
                <a:solidFill>
                  <a:srgbClr val="0000f8"/>
                </a:solidFill>
                <a:latin typeface="Arial"/>
              </a:rPr>
              <a:t>TCP/IP</a:t>
            </a:r>
            <a:r>
              <a:rPr b="0" lang="ru-RU" sz="2700" spc="-1" strike="noStrike">
                <a:solidFill>
                  <a:srgbClr val="0000f8"/>
                </a:solidFill>
                <a:latin typeface="Arial"/>
              </a:rPr>
              <a:t> (2)</a:t>
            </a:r>
            <a:endParaRPr b="0" lang="en-US" sz="2700" spc="-1" strike="noStrike">
              <a:solidFill>
                <a:srgbClr val="0000f8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295280" y="762120"/>
          <a:ext cx="6683400" cy="569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762120"/>
                    <a:ext cx="6683400" cy="56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curity standar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C493-ABA7-4E53-884F-4B94B325628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1-24, 2004 Silk Security Worksho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5240" y="217080"/>
            <a:ext cx="8285400" cy="4748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txBody>
          <a:bodyPr lIns="47520" rIns="47520" tIns="17640" bIns="17640" anchor="t">
            <a:noAutofit/>
          </a:bodyPr>
          <a:p>
            <a:pPr indent="0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GB" sz="2800" spc="-1" strike="noStrike">
                <a:solidFill>
                  <a:srgbClr val="0000f8"/>
                </a:solidFill>
                <a:latin typeface="Arial"/>
              </a:rPr>
              <a:t>Основные структурные элементы сетей  </a:t>
            </a:r>
            <a:endParaRPr b="0" lang="en-US" sz="2800" spc="-1" strike="noStrike">
              <a:solidFill>
                <a:srgbClr val="0000f8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377200" y="5165640"/>
            <a:ext cx="557280" cy="23328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09640" y="5165640"/>
            <a:ext cx="558720" cy="23328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66880" y="4770360"/>
            <a:ext cx="390600" cy="2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9320" rIns="49320" tIns="19080" bIns="19080" anchor="t">
            <a:spAutoFit/>
          </a:bodyPr>
          <a:p>
            <a:pPr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68320" y="4335480"/>
            <a:ext cx="330120" cy="2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9320" rIns="49320" tIns="19080" bIns="19080" anchor="t">
            <a:spAutoFit/>
          </a:bodyPr>
          <a:p>
            <a:pPr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66880" y="3921120"/>
            <a:ext cx="331560" cy="2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9320" rIns="49320" tIns="19080" bIns="19080" anchor="t">
            <a:spAutoFit/>
          </a:bodyPr>
          <a:p>
            <a:pPr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68320" y="3487680"/>
            <a:ext cx="351000" cy="2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9320" rIns="49320" tIns="19080" bIns="19080" anchor="t">
            <a:spAutoFit/>
          </a:bodyPr>
          <a:p>
            <a:pPr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85960" y="3073320"/>
            <a:ext cx="352440" cy="2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9320" rIns="49320" tIns="19080" bIns="19080" anchor="t">
            <a:spAutoFit/>
          </a:bodyPr>
          <a:p>
            <a:pPr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87400" y="2668680"/>
            <a:ext cx="351000" cy="2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9320" rIns="49320" tIns="19080" bIns="19080" anchor="t">
            <a:spAutoFit/>
          </a:bodyPr>
          <a:p>
            <a:pPr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06480" y="2179800"/>
            <a:ext cx="331920" cy="2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9320" rIns="49320" tIns="19080" bIns="19080" anchor="t">
            <a:spAutoFit/>
          </a:bodyPr>
          <a:p>
            <a:pPr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52600" y="1343160"/>
            <a:ext cx="131436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9320" rIns="49320" tIns="19080" bIns="19080" anchor="t">
            <a:spAutoFit/>
          </a:bodyPr>
          <a:p>
            <a:pPr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Times New Roman"/>
              </a:rPr>
              <a:t>Конечная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Times New Roman"/>
              </a:rPr>
              <a:t>система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549600" y="1424160"/>
            <a:ext cx="2975040" cy="3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9320" rIns="49320" tIns="19080" bIns="19080" anchor="t">
            <a:spAutoFit/>
          </a:bodyPr>
          <a:p>
            <a:pPr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Times New Roman"/>
              </a:rPr>
              <a:t>Межсетевые устройства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638280" y="2031840"/>
            <a:ext cx="984240" cy="3121200"/>
            <a:chOff x="638280" y="2031840"/>
            <a:chExt cx="984240" cy="3121200"/>
          </a:xfrm>
        </p:grpSpPr>
        <p:sp>
          <p:nvSpPr>
            <p:cNvPr id="221" name=""/>
            <p:cNvSpPr/>
            <p:nvPr/>
          </p:nvSpPr>
          <p:spPr>
            <a:xfrm>
              <a:off x="638280" y="4692600"/>
              <a:ext cx="984240" cy="46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38280" y="4279680"/>
              <a:ext cx="984240" cy="400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38280" y="3865320"/>
              <a:ext cx="984240" cy="401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38280" y="3449520"/>
              <a:ext cx="984240" cy="403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38280" y="3036600"/>
              <a:ext cx="984240" cy="400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38280" y="2624040"/>
              <a:ext cx="984240" cy="399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8280" y="2031840"/>
              <a:ext cx="984240" cy="579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3468600" y="4713120"/>
            <a:ext cx="3087720" cy="46044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68600" y="4300560"/>
            <a:ext cx="3087720" cy="39996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68600" y="3884760"/>
            <a:ext cx="3087720" cy="403200"/>
          </a:xfrm>
          <a:prstGeom prst="rect">
            <a:avLst/>
          </a:prstGeom>
          <a:solidFill>
            <a:srgbClr val="f2f2f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68600" y="3471840"/>
            <a:ext cx="3087720" cy="399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468600" y="3057480"/>
            <a:ext cx="3087720" cy="40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468600" y="2644920"/>
            <a:ext cx="3087720" cy="399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468600" y="2052720"/>
            <a:ext cx="3087720" cy="579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4520" y="5927760"/>
            <a:ext cx="4319640" cy="361800"/>
          </a:xfrm>
          <a:prstGeom prst="rect">
            <a:avLst/>
          </a:prstGeom>
          <a:solidFill>
            <a:srgbClr val="cecec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669160" y="4749840"/>
            <a:ext cx="392400" cy="2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9320" rIns="49320" tIns="19080" bIns="19080" anchor="t">
            <a:spAutoFit/>
          </a:bodyPr>
          <a:p>
            <a:pPr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670960" y="4313160"/>
            <a:ext cx="330120" cy="2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9320" rIns="49320" tIns="19080" bIns="19080" anchor="t">
            <a:spAutoFit/>
          </a:bodyPr>
          <a:p>
            <a:pPr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669160" y="3921120"/>
            <a:ext cx="331920" cy="2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9320" rIns="49320" tIns="19080" bIns="19080" anchor="t">
            <a:spAutoFit/>
          </a:bodyPr>
          <a:p>
            <a:pPr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670960" y="3487680"/>
            <a:ext cx="350640" cy="2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9320" rIns="49320" tIns="19080" bIns="19080" anchor="t">
            <a:spAutoFit/>
          </a:bodyPr>
          <a:p>
            <a:pPr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688240" y="3052800"/>
            <a:ext cx="352440" cy="2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9320" rIns="49320" tIns="19080" bIns="19080" anchor="t">
            <a:spAutoFit/>
          </a:bodyPr>
          <a:p>
            <a:pPr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690040" y="2668680"/>
            <a:ext cx="350640" cy="2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9320" rIns="49320" tIns="19080" bIns="19080" anchor="t">
            <a:spAutoFit/>
          </a:bodyPr>
          <a:p>
            <a:pPr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651880" y="2200320"/>
            <a:ext cx="330120" cy="2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9320" rIns="49320" tIns="19080" bIns="19080" anchor="t">
            <a:spAutoFit/>
          </a:bodyPr>
          <a:p>
            <a:pPr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8126280" y="2031840"/>
            <a:ext cx="986040" cy="3121200"/>
            <a:chOff x="8126280" y="2031840"/>
            <a:chExt cx="986040" cy="3121200"/>
          </a:xfrm>
        </p:grpSpPr>
        <p:sp>
          <p:nvSpPr>
            <p:cNvPr id="244" name=""/>
            <p:cNvSpPr/>
            <p:nvPr/>
          </p:nvSpPr>
          <p:spPr>
            <a:xfrm>
              <a:off x="8126280" y="4692600"/>
              <a:ext cx="986040" cy="46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126280" y="4279680"/>
              <a:ext cx="986040" cy="400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126280" y="3865320"/>
              <a:ext cx="986040" cy="401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126280" y="3449520"/>
              <a:ext cx="986040" cy="403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126280" y="3036600"/>
              <a:ext cx="986040" cy="400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126280" y="2624040"/>
              <a:ext cx="986040" cy="399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126280" y="2031840"/>
              <a:ext cx="986040" cy="579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3738600" y="2511360"/>
            <a:ext cx="2543040" cy="3397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916440" y="4186080"/>
            <a:ext cx="2149560" cy="172260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092480" y="4614840"/>
            <a:ext cx="1776600" cy="13129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308480" y="4940280"/>
            <a:ext cx="1344600" cy="9874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305240" y="4710240"/>
            <a:ext cx="1374840" cy="4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9320" rIns="49320" tIns="19080" bIns="19080" anchor="t">
            <a:spAutoFit/>
          </a:bodyPr>
          <a:p>
            <a:pPr algn="ct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Повторитель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Repea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932280" y="2097000"/>
            <a:ext cx="2239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9320" rIns="49320" tIns="19080" bIns="19080" anchor="t">
            <a:spAutoFit/>
          </a:bodyPr>
          <a:p>
            <a:pPr algn="ct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Шлюз - Gatewa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794040" y="3873600"/>
            <a:ext cx="247500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9320" rIns="49320" tIns="19080" bIns="19080" anchor="t">
            <a:spAutoFit/>
          </a:bodyPr>
          <a:p>
            <a:pPr algn="ct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Маршрутизатор - Rou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913200" y="4343400"/>
            <a:ext cx="223848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9320" rIns="49320" tIns="19080" bIns="19080" anchor="t">
            <a:spAutoFit/>
          </a:bodyPr>
          <a:p>
            <a:pPr algn="ct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Мост- Bridg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098720" y="5159520"/>
            <a:ext cx="0" cy="755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732120" y="5180040"/>
            <a:ext cx="0" cy="735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909960" y="5200560"/>
            <a:ext cx="0" cy="714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086360" y="5200560"/>
            <a:ext cx="0" cy="714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302000" y="5180040"/>
            <a:ext cx="0" cy="735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659560" y="5200560"/>
            <a:ext cx="0" cy="754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875200" y="5180040"/>
            <a:ext cx="0" cy="735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288120" y="5180040"/>
            <a:ext cx="0" cy="735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72120" y="5180040"/>
            <a:ext cx="0" cy="735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645400" y="5159520"/>
            <a:ext cx="0" cy="755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162240" y="4322880"/>
            <a:ext cx="0" cy="857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37480" y="3873600"/>
            <a:ext cx="0" cy="128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828800" y="4362480"/>
            <a:ext cx="1217520" cy="4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9320" rIns="49320" tIns="19080" bIns="19080" anchor="t">
            <a:spAutoFit/>
          </a:bodyPr>
          <a:p>
            <a:pPr algn="ct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Коммутатор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ЛВС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900840" y="3894120"/>
            <a:ext cx="11764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9320" rIns="49320" tIns="19080" bIns="19080" anchor="t">
            <a:spAutoFit/>
          </a:bodyPr>
          <a:p>
            <a:pPr algn="ct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АТМ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Коммутатор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ЛВС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279440" y="5934240"/>
            <a:ext cx="2238480" cy="2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9320" rIns="49320" tIns="19080" bIns="19080" anchor="t">
            <a:spAutoFit/>
          </a:bodyPr>
          <a:p>
            <a:pPr algn="ct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Физическая сред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981920" y="1260360"/>
            <a:ext cx="131436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9320" rIns="49320" tIns="19080" bIns="19080" anchor="t">
            <a:spAutoFit/>
          </a:bodyPr>
          <a:p>
            <a:pPr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Times New Roman"/>
              </a:rPr>
              <a:t>Конечная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Times New Roman"/>
              </a:rPr>
              <a:t>система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219640" y="5927760"/>
            <a:ext cx="4318200" cy="361800"/>
          </a:xfrm>
          <a:prstGeom prst="rect">
            <a:avLst/>
          </a:prstGeom>
          <a:solidFill>
            <a:srgbClr val="cecec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53120" y="5934240"/>
            <a:ext cx="2239920" cy="2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9320" rIns="49320" tIns="19080" bIns="19080" anchor="t">
            <a:spAutoFit/>
          </a:bodyPr>
          <a:p>
            <a:pPr algn="ct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Физическая сред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9121680" y="5348160"/>
            <a:ext cx="50976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9320" rIns="49320" tIns="19080" bIns="19080" anchor="t">
            <a:spAutoFit/>
          </a:bodyPr>
          <a:p>
            <a:pPr algn="ct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УДС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85760" y="5416560"/>
            <a:ext cx="50940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9320" rIns="49320" tIns="19080" bIns="19080" anchor="t">
            <a:spAutoFit/>
          </a:bodyPr>
          <a:p>
            <a:pPr algn="ctr"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УДС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curity standar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10EF-59D9-45D3-9473-8980E00DDAF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1-24, 2004 Silk Security Workshop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01800" y="190440"/>
            <a:ext cx="88200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2700" spc="-1" strike="noStrike">
                <a:solidFill>
                  <a:srgbClr val="0000f8"/>
                </a:solidFill>
                <a:latin typeface="Arial"/>
              </a:rPr>
              <a:t>Объекты защиты в ИТС</a:t>
            </a:r>
            <a:endParaRPr b="0" lang="en-US" sz="2700" spc="-1" strike="noStrike">
              <a:solidFill>
                <a:srgbClr val="0000f8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63080" y="1351080"/>
            <a:ext cx="9558360" cy="515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4800" indent="0">
              <a:spcBef>
                <a:spcPts val="524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ычислительные ресурсы и инфраструктурные компонент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76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ычислительные системы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76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елекоммуникационные системы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76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истемы управления сетью и другими обьектам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76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Центральные компоненты различных сервисов, например,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NS, PKI, LDAP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spcBef>
                <a:spcPts val="524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нформационные ресурс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76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Интеллектуальная собствен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76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Конфиденциальная информац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76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Личная информация, например, о клиентах, больных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7920">
              <a:spcBef>
                <a:spcPts val="476"/>
              </a:spcBef>
              <a:buClr>
                <a:srgbClr val="000000"/>
              </a:buClr>
              <a:buFont typeface="Symbol" charset="2"/>
              <a:buChar char="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Информация о третьих лицах, например, о партнерах или другая  бизнес-информац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curity standar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0F5A-63F7-481A-9804-73556DE142A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1-24, 2004 Silk Security Worksho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0T17:31:50Z</dcterms:created>
  <dc:creator> </dc:creator>
  <dc:description/>
  <dc:language>en-US</dc:language>
  <cp:lastModifiedBy>Yuri Demchenko</cp:lastModifiedBy>
  <cp:lastPrinted>1998-03-27T12:42:53Z</cp:lastPrinted>
  <dcterms:modified xsi:type="dcterms:W3CDTF">2004-06-21T20:15:25Z</dcterms:modified>
  <cp:revision>933</cp:revision>
  <dc:subject/>
  <dc:title>HTTP и CGI</dc:title>
</cp:coreProperties>
</file>