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6FED-BEEC-4990-AAC2-F77F14B5A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6F33-9321-4643-8F6D-9E98C741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5190-76C6-419E-ADD5-D49DBB6B1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AB5C-6F79-4D75-B2F0-DBAC0BC0B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C773-F902-40F2-BFB8-D3E5FFD3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A7DB-AB68-40A9-B5C3-440FC36D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FBF2-8AED-4122-B096-FDABA8E0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93BF-2392-418E-B794-0CAAA0C4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09EE-E17C-4FC8-AC7E-FED746AD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1E1E-B744-4E2E-B98B-B46B7192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4ABB-ADE8-475C-A75E-1F1EDF89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3438-2FCC-4A01-9ABB-B015EA2E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E869-6BDD-4326-B442-ADF9CC2CA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вантовая криптография: принципы, первые шаги, перспекти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3200040"/>
            <a:ext cx="7620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гран Закаря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реванский Государственный Университ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gr@ysu.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er Security Workshop 2004 21-24 June 2004, Yerev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т возмущения – нет измерения – нет подслуши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ьный квант называетс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er Security Workshop 2004 21-24 June 2004, Yerev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76520" y="101520"/>
            <a:ext cx="47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токол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BB84) [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257480" y="990720"/>
            <a:ext cx="6666840" cy="4917960"/>
            <a:chOff x="1257480" y="990720"/>
            <a:chExt cx="6666840" cy="4917960"/>
          </a:xfrm>
        </p:grpSpPr>
        <p:grpSp>
          <p:nvGrpSpPr>
            <p:cNvPr id="59" name=""/>
            <p:cNvGrpSpPr/>
            <p:nvPr/>
          </p:nvGrpSpPr>
          <p:grpSpPr>
            <a:xfrm>
              <a:off x="3962160" y="990720"/>
              <a:ext cx="3962160" cy="4917960"/>
              <a:chOff x="3962160" y="990720"/>
              <a:chExt cx="3962160" cy="4917960"/>
            </a:xfrm>
          </p:grpSpPr>
          <p:pic>
            <p:nvPicPr>
              <p:cNvPr id="60" name="image002" descr=""/>
              <p:cNvPicPr/>
              <p:nvPr/>
            </p:nvPicPr>
            <p:blipFill>
              <a:blip r:embed="rId1"/>
              <a:stretch/>
            </p:blipFill>
            <p:spPr>
              <a:xfrm>
                <a:off x="3962160" y="990720"/>
                <a:ext cx="3962160" cy="57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image003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2160" y="1905120"/>
                <a:ext cx="3949560" cy="52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image005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2160" y="2819520"/>
                <a:ext cx="3962160" cy="52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image006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2160" y="4384800"/>
                <a:ext cx="3962160" cy="52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image007" descr=""/>
              <p:cNvPicPr/>
              <p:nvPr/>
            </p:nvPicPr>
            <p:blipFill>
              <a:blip r:embed="rId5"/>
              <a:stretch/>
            </p:blipFill>
            <p:spPr>
              <a:xfrm>
                <a:off x="3962160" y="5146920"/>
                <a:ext cx="3962160" cy="76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image003" descr=""/>
              <p:cNvPicPr/>
              <p:nvPr/>
            </p:nvPicPr>
            <p:blipFill>
              <a:blip r:embed="rId6"/>
              <a:stretch/>
            </p:blipFill>
            <p:spPr>
              <a:xfrm>
                <a:off x="3962160" y="3546720"/>
                <a:ext cx="3949560" cy="520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" name=""/>
            <p:cNvGrpSpPr/>
            <p:nvPr/>
          </p:nvGrpSpPr>
          <p:grpSpPr>
            <a:xfrm>
              <a:off x="1257480" y="1066680"/>
              <a:ext cx="2307240" cy="4615920"/>
              <a:chOff x="1257480" y="1066680"/>
              <a:chExt cx="2307240" cy="4615920"/>
            </a:xfrm>
          </p:grpSpPr>
          <p:sp>
            <p:nvSpPr>
              <p:cNvPr id="67" name=""/>
              <p:cNvSpPr/>
              <p:nvPr/>
            </p:nvSpPr>
            <p:spPr>
              <a:xfrm>
                <a:off x="1257840" y="1905120"/>
                <a:ext cx="230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Боб (измерение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1257480" y="1066680"/>
                <a:ext cx="2057040" cy="3806280"/>
                <a:chOff x="1257480" y="1066680"/>
                <a:chExt cx="2057040" cy="380628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1257480" y="1066680"/>
                  <a:ext cx="2057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Алиса 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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  Боб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257480" y="2895480"/>
                  <a:ext cx="1860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Боб (секрет)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287000" y="3575160"/>
                  <a:ext cx="1866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Боб 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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 Алиса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1287000" y="4413240"/>
                  <a:ext cx="1866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Алиса 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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 Боб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" name=""/>
              <p:cNvSpPr/>
              <p:nvPr/>
            </p:nvSpPr>
            <p:spPr>
              <a:xfrm>
                <a:off x="1257480" y="5222880"/>
                <a:ext cx="227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Алиса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Боб (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key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er Security Workshop 2004 21-24 June 2004, Yerev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сперимент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[3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няя скорость обмена – 6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600200" y="2840040"/>
          <a:ext cx="6113520" cy="192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840040"/>
                    <a:ext cx="6113520" cy="19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er Security Workshop 2004 21-24 June 2004, Yerev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ществующие продук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giq”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(США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“ID Quantique”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(Швейцария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же поставили оборудование квантовой криптозащиты некоторым своим клиентам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er Security Workshop 2004 21-24 June 2004, Yerev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вая се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ый перевод денег – апрель 2004г. (Австри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uantum Net (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t) Cambridge, Massachusett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4 июня 2004г. Дистанция – 10 к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 тольк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веров в се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er Security Workshop 2004 21-24 June 2004, Yerev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ек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e Communication based on Quantum Cryptography (SECOQ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ка квантовых криптосисте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вропейский Союз инвестировал 11 млн евр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ководитель проек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tian Mony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стрия, Бельгия, Великобритания, Канада, Чехия, Дания, Франция, ФРГ, Италия, Россия, Швеция, Швейцар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secoqc.net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er Security Workshop 2004 21-24 June 2004, Yerev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.H. Bennett, and G. Brassard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uantum cryptography: public key distribution and coin tos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Int. Conf. Computers, Systems &amp; Signal Processing, Bangalore, India, December 10-12, 175-179 (198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Gisin, 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Ribordy, 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ittel and 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Zbind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University of Genev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-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Quantum cryptograph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Reviews of Modern Phys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December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. Stucki, N. Gisin, O. Guinnard, G. Ribordy, H. Zbinden - </a:t>
            </a:r>
            <a:r>
              <a:rPr b="0" i="1" lang="e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uantum Key Distribution over 67 km with a plug &amp; play system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i="1" lang="e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xxx.lanl.gov/abs/quant-ph/0203118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er Security Workshop 2004 21-24 June 2004, Yerev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рминолог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вантовая криптография (КК) – квантовый обмен ключей. Метод защищенной и безопасной передачи информации, основанный на принципах квантовой механ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er Security Workshop 2004 21-24 June 2004, Yerev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аемые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фиденциаль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ост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er Security Workshop 2004 21-24 June 2004, Yerev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стемы криптограф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симметричные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-ke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Diffie, Hellman (1976)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 существование защищенных асимметричных криптосистем не доказа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мметричные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-ke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Gilbert Vernam, AT&amp;T (1926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Требуют защищенной передачи единого ключа. Доказательство -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nno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194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er Security Workshop 2004 21-24 June 2004, Yerev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ительность использования ключа не должна превышать время актуальн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бщ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 (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)     =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  = 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er Security Workshop 2004 21-24 June 2004, Yerev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тон – безмассовая частица (квант электоромагнитного поля), переносящая энергию, импульс и угловой момент (спин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er Security Workshop 2004 21-24 June 2004, Yerev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з первый поляризатор проходят вертикально поляризованные фотоны (в среднем 5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щего числ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з второй поляризатор проходит также 5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! Первый поляризатор рандомизирует состояние фот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image001" descr=""/>
          <p:cNvPicPr/>
          <p:nvPr/>
        </p:nvPicPr>
        <p:blipFill>
          <a:blip r:embed="rId1"/>
          <a:stretch/>
        </p:blipFill>
        <p:spPr>
          <a:xfrm>
            <a:off x="1828800" y="3962520"/>
            <a:ext cx="5016600" cy="177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er Security Workshop 2004 21-24 June 2004, Yerev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структивны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посылки – принцип неопределенности Гейзенбер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е измерение возмущает систем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озможно одновременно определить положение и импульс квантовой частицы с произвольной точнос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озможно измерить поляризацию фотона в горизонтально-вертикальном базисе (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и одновременно в диагональном (4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базис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озможно нарисовать картину индивидуального квантового процес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озможно продублировать неизвестное квантовое состоя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er Security Workshop 2004 21-24 June 2004, Yerev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ы квантовых состояни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9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и (4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3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называютс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опряженны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возможно одновременно измерить с произвольной точностью значения сопряженных велич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er Security Workshop 2004 21-24 June 2004, Yerev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igran Zakaryan</cp:lastModifiedBy>
  <dcterms:modified xsi:type="dcterms:W3CDTF">2004-06-24T04:36:31Z</dcterms:modified>
  <cp:revision>14</cp:revision>
  <dc:subject/>
  <dc:title>PowerPoint Presentation</dc:title>
</cp:coreProperties>
</file>